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51450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7BA3-4CD6-47DF-BC04-2AAD136B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20F-6D19-435D-BDA8-F2C5EA25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05F64-DFA4-4DB3-95F6-F700F57C609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3DA88-35D4-4A27-A62C-AE982CEF91B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005EA-F379-4332-80FC-DA1F7C9B9BC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587BF-FFA7-4143-9D13-ED591C0C01E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86803-7286-49C6-9B5E-8845DA78401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9EE6A-6EFE-496A-9915-80A44CB73C6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64BF9-17D7-4299-B89F-0878AA52B76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BA380-5977-41BE-8B80-935BBE00E4B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3D228-FB2D-47D2-8623-9D5AD434DBF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224-C32C-4122-AB24-4F5FE7E8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68B-9741-4704-809A-2C0BF80A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4D6C80-A7F3-4987-95A7-E8A5CDDBAE4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AB6281-C05B-466C-AECA-E4986CD82E4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8DCA23-3930-4E18-9650-F6B6DCBF0E5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CA78E7-8445-4C69-96B6-13C7B13C093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C68223-CC59-471A-AA0C-18546DF2F88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41D2A-B3AE-4DBA-9D75-9C76ACA161A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9CF41D-3618-4F60-86BB-CC4B7564FED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593F8A-4529-4364-8ECC-3C69CC5F70B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3C1B6E-B110-4FB4-B4FD-D0F2E3898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CA6789-DEBB-4D53-A735-971D38802FF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B34586-BC0D-4627-A5A5-1F06EA4EDE8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12AA72-3BBF-45C3-84E8-C1358DBF936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A57-BC6B-4E39-B9B1-3F32F028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6AF8-7A68-4AB3-B54A-274F3C8A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A45EA-724A-464A-8B0C-E13214F535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87FFA-E0D6-4196-9426-16755B2A5E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9A291-BEB1-4E41-8CCA-ACAD33357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FF3-0E80-425A-9130-4252192F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163E4-020B-4B14-A624-3EA45ACB92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0176F-7966-421E-9FA5-FF22803F12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E625A-3D17-4962-BC74-C16C4952B4A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BE500-2FD0-4C20-A4B7-C92D232D13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2E646-CE91-4A82-A6ED-4384F9FD64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27C7B-7DB8-4456-A720-00EA85DEAD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6392A-59EF-4C0A-B103-1AF064F076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96658-DD26-4EF7-96AF-A365F8478A3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CBFAF-C20F-4857-AD08-812FFCABFE5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CD256-159C-485D-8592-F308AA229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38F1-19EC-4330-97D6-9F5B8C96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F9696-D37A-48F3-B889-43C139D083F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F5405-1C9A-44C8-8AEA-F8E4028FD81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2C2A5-3D0B-4467-9F8B-A1A214D2B57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209C6-6FF1-4931-B9C7-54293DF4074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D6373-742B-43BF-A67A-D502B637BE7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2F96D-CBD2-44D0-99E3-8A101A3304F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6FDF9-A3A7-4C6A-A552-D9463D17FC3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97430-5C47-4B38-A60D-57DAF77C4D1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DFAB8-2F49-4B37-B0F9-F9D34CCA995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8F787-0BEE-40D0-8D8A-D53E8B207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844-46E6-47A4-BA6F-FB0DD6A2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C0F14-BB8A-48A7-9EDA-E4B890C47FF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9EB9-EBD1-4D09-A8C3-5E1DC5C52E4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2FBC-72B9-4916-A020-A7E96AB5268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BF08-B8CF-4BCE-A2F3-3A0FA442D3D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C040-EA32-4B41-9E46-C138E16EEAE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C154-1942-46D8-8F53-EA04137AD89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802D-6C44-46F2-82E6-088C8FBDA5F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A361-64B4-4EB8-8DD9-40604CC14DA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4438-09C6-4F41-92D0-06879A8FEF6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87D4-6038-4FB3-8ACA-087BAD04E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A852-D487-4190-A896-82157D34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4EBB-6557-4CBF-B5E8-EA977DD715D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D733-9794-4F8A-8E7B-9168BEF00AF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D1F4-0EC7-41B4-A4C1-573F33700C1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DBB037-1431-441B-A342-AC5D31C4AF6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0AD560-2926-4B5A-8D1F-5059AF8ECC8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C613B5-7A82-40B5-861B-F3CE8F17C46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5E04CB-2132-4AA2-9060-7884DCD263F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802744-E910-4A24-9F82-FCDE7410BAC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BDBD8D-5076-4AE6-89ED-08E99E8C869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203882-D075-47E7-AAD0-62A919D20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AAC-AF6B-4D79-BD57-2FA8AF59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A9C85B-D911-4146-8B8F-610D6F60D12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D06EA5-A470-4426-A0F3-C0C49E986F2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75867C-7D87-4B06-A53F-5B901DF5D46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49C3EE-28A0-4B8F-A50C-888CD35AF46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099543-EAB2-4890-A61E-2A5394F1ED1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936-0B6C-49F3-8C97-17BCA4BC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DDBA9-4F12-48F7-A7B8-82A89BBD1ED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B502B-E4FF-4EE4-ACBA-131CBC27B99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D34CA-E0DE-4894-BB34-874B2C983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4ADB869-6F63-4620-9B18-AAAB7BAC8D10}" type="datetime">
              <a:rPr b="0" lang="ru-RU" sz="11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2760" y="4398480"/>
            <a:ext cx="504720" cy="513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2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A020432-987A-47DA-8BB7-F17D9993D591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761C052-8547-49A2-87B2-CAD0D279721B}" type="datetime">
              <a:rPr b="0" lang="ru-RU" sz="11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1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11"/>
          </p:nvPr>
        </p:nvSpPr>
        <p:spPr>
          <a:xfrm>
            <a:off x="8402760" y="4398480"/>
            <a:ext cx="504720" cy="513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2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6470401-79F8-4519-89E2-D3FE4A7E016B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1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D16F426E-C5EB-453C-AC81-8819B66BF99A}" type="datetime">
              <a:rPr b="0" lang="ru-RU" sz="11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1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D8D05FF-2343-4BAA-BAE7-3A9F434AB200}" type="datetime">
              <a:rPr b="0" lang="ru-RU" sz="11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Z:\Projects\Текущие\Проектная\FNS_2012\_БРЭНДБУК\out\PPT\3_1_present_16.9-01.png"/>
          <p:cNvPicPr/>
          <p:nvPr/>
        </p:nvPicPr>
        <p:blipFill>
          <a:blip r:embed="rId3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Z:\Projects\Текущие\Проектная\FNS_2012\_БРЭНДБУК\out\PPT\3_1_present_16.9-0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7"/>
          <p:cNvSpPr/>
          <p:nvPr/>
        </p:nvSpPr>
        <p:spPr>
          <a:xfrm>
            <a:off x="5925960" y="3844800"/>
            <a:ext cx="924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8402760" y="4398480"/>
            <a:ext cx="504720" cy="513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2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C86989E-54E1-49E2-9EC0-B71C641CE510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5925960" y="3844800"/>
            <a:ext cx="924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8402760" y="4398480"/>
            <a:ext cx="504720" cy="513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2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FE830F4-45AB-4988-9644-88D13B7991BF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Z:\Projects\Текущие\Проектная\FNS_2012\_БРЭНДБУК\out\PPT\3_1_present_16.9-04.png"/>
          <p:cNvPicPr/>
          <p:nvPr/>
        </p:nvPicPr>
        <p:blipFill>
          <a:blip r:embed="rId3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6"/>
          </p:nvPr>
        </p:nvSpPr>
        <p:spPr>
          <a:xfrm>
            <a:off x="8402760" y="4398480"/>
            <a:ext cx="504720" cy="513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2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0731BF6-1C99-4F3E-8D93-F9EC751E9FAE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Z:\Projects\Текущие\Проектная\FNS_2012\_БРЭНДБУК\out\PPT\3_1_present_16.9-04.png"/>
          <p:cNvPicPr/>
          <p:nvPr/>
        </p:nvPicPr>
        <p:blipFill>
          <a:blip r:embed="rId3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7"/>
          </p:nvPr>
        </p:nvSpPr>
        <p:spPr>
          <a:xfrm>
            <a:off x="8402760" y="4398480"/>
            <a:ext cx="504720" cy="513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2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BD1313F-B1FE-46B8-BAA2-18A4B6A69F77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Z:\Projects\Текущие\Проектная\FNS_2012\_БРЭНДБУК\out\PPT\3_1_present_16.9-0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8"/>
          </p:nvPr>
        </p:nvSpPr>
        <p:spPr>
          <a:xfrm>
            <a:off x="8402760" y="4398480"/>
            <a:ext cx="504720" cy="513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2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3CF5D18-A0C0-4899-94F6-20132207A118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477880" y="936720"/>
            <a:ext cx="6103800" cy="3579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ru-RU" sz="4700" spc="-1" strike="noStrike">
              <a:solidFill>
                <a:srgbClr val="8d8c90"/>
              </a:solidFill>
              <a:latin typeface="Calibri"/>
            </a:endParaRPr>
          </a:p>
        </p:txBody>
      </p:sp>
      <p:pic>
        <p:nvPicPr>
          <p:cNvPr id="530" name="Picture 2" descr="C:\Users\5600-03-410\Desktop\Баннер 2020.JPG"/>
          <p:cNvPicPr/>
          <p:nvPr/>
        </p:nvPicPr>
        <p:blipFill>
          <a:blip r:embed="rId1"/>
          <a:stretch/>
        </p:blipFill>
        <p:spPr>
          <a:xfrm>
            <a:off x="-108000" y="0"/>
            <a:ext cx="9576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90560" y="1634760"/>
            <a:ext cx="7067520" cy="142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ru-RU" sz="3800" spc="-1" strike="noStrike">
                <a:solidFill>
                  <a:srgbClr val="005aa9"/>
                </a:solidFill>
                <a:latin typeface="Calibri"/>
              </a:rPr>
              <a:t>     </a:t>
            </a:r>
            <a:br>
              <a:rPr sz="3800"/>
            </a:br>
            <a:r>
              <a:rPr b="1" lang="ru-RU" sz="3800" spc="-1" strike="noStrike">
                <a:solidFill>
                  <a:srgbClr val="005aa9"/>
                </a:solidFill>
                <a:latin typeface="Calibri"/>
              </a:rPr>
              <a:t>              </a:t>
            </a:r>
            <a:r>
              <a:rPr b="0" lang="ru-RU" sz="3600" spc="-1" strike="noStrike">
                <a:solidFill>
                  <a:srgbClr val="3c1b8f"/>
                </a:solidFill>
                <a:latin typeface="PF Din Text Comp Pro Medium"/>
              </a:rPr>
              <a:t>ОБЯЗАННОСТЬ:</a:t>
            </a:r>
            <a:br>
              <a:rPr sz="3600"/>
            </a:br>
            <a:r>
              <a:rPr b="1" lang="ru-RU" sz="3800" spc="-1" strike="noStrike">
                <a:solidFill>
                  <a:srgbClr val="005aa9"/>
                </a:solidFill>
                <a:latin typeface="Calibri"/>
              </a:rPr>
              <a:t> 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32" name="Номер слайда 2"/>
          <p:cNvSpPr/>
          <p:nvPr/>
        </p:nvSpPr>
        <p:spPr>
          <a:xfrm>
            <a:off x="8402760" y="4398840"/>
            <a:ext cx="5047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pPr algn="ctr">
              <a:lnSpc>
                <a:spcPts val="1874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EBC7427-EA81-4A34-80F5-D8D8587CB4B8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Рисунок 4" descr=""/>
          <p:cNvPicPr/>
          <p:nvPr/>
        </p:nvPicPr>
        <p:blipFill>
          <a:blip r:embed="rId1"/>
          <a:srcRect l="21095" t="28835" r="20399" b="27957"/>
          <a:stretch/>
        </p:blipFill>
        <p:spPr>
          <a:xfrm>
            <a:off x="333360" y="411120"/>
            <a:ext cx="1225440" cy="1224000"/>
          </a:xfrm>
          <a:prstGeom prst="rect">
            <a:avLst/>
          </a:prstGeom>
          <a:ln w="0">
            <a:noFill/>
          </a:ln>
        </p:spPr>
      </p:pic>
      <p:sp>
        <p:nvSpPr>
          <p:cNvPr id="534" name="Прямоугольник 4"/>
          <p:cNvSpPr/>
          <p:nvPr/>
        </p:nvSpPr>
        <p:spPr>
          <a:xfrm>
            <a:off x="1692360" y="627120"/>
            <a:ext cx="56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УПРАВЛЕНИЕ ФЕДЕР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НАЛОГОВОЙ СЛУЖБЫ ПО ОРЕНБУРГ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3"/>
          <p:cNvSpPr/>
          <p:nvPr/>
        </p:nvSpPr>
        <p:spPr>
          <a:xfrm>
            <a:off x="977760" y="1924200"/>
            <a:ext cx="6707160" cy="647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b0f0"/>
              </a:gs>
              <a:gs pos="100000">
                <a:srgbClr val="cceff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2000" spc="-1" strike="noStrike">
                <a:solidFill>
                  <a:srgbClr val="3c1b8f"/>
                </a:solidFill>
                <a:latin typeface="PF Din Text Comp Pro Medium"/>
              </a:rPr>
              <a:t>Вознаграждения по гражданско-правовым договорам, в том числе  от сдачи имущества в арен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3"/>
          <p:cNvSpPr/>
          <p:nvPr/>
        </p:nvSpPr>
        <p:spPr>
          <a:xfrm>
            <a:off x="971640" y="2643120"/>
            <a:ext cx="6724440" cy="7207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b0f0"/>
              </a:gs>
              <a:gs pos="100000">
                <a:srgbClr val="cceff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2000" spc="-1" strike="noStrike">
                <a:solidFill>
                  <a:srgbClr val="3c1b8f"/>
                </a:solidFill>
                <a:latin typeface="PF Din Text Comp Pro Medium"/>
              </a:rPr>
              <a:t>Продажа имущества, находящегося в собственности меньше минимального срока вла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3"/>
          <p:cNvSpPr/>
          <p:nvPr/>
        </p:nvSpPr>
        <p:spPr>
          <a:xfrm>
            <a:off x="946080" y="3435480"/>
            <a:ext cx="6697800" cy="285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b0f0"/>
              </a:gs>
              <a:gs pos="100000">
                <a:srgbClr val="cceff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1200" spc="-1" strike="noStrike">
                <a:solidFill>
                  <a:srgbClr val="003380"/>
                </a:solidFill>
                <a:latin typeface="PF DinDisplay Pro Medium"/>
              </a:rPr>
              <a:t> </a:t>
            </a:r>
            <a:r>
              <a:rPr b="0" lang="ru-RU" sz="1200" spc="-1" strike="noStrike">
                <a:solidFill>
                  <a:srgbClr val="003380"/>
                </a:solidFill>
                <a:latin typeface="PF DinDisplay Pro Medium"/>
              </a:rPr>
              <a:t>Выигрыши и призы (в лотереях, казино, тотализаторах, от участия в рекламных акциях, конкурсах, игровых автоматах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3"/>
          <p:cNvSpPr/>
          <p:nvPr/>
        </p:nvSpPr>
        <p:spPr>
          <a:xfrm>
            <a:off x="946080" y="3435480"/>
            <a:ext cx="6738840" cy="7207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b0f0"/>
              </a:gs>
              <a:gs pos="100000">
                <a:srgbClr val="cceff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1200" spc="-1" strike="noStrike">
                <a:solidFill>
                  <a:srgbClr val="3c1b8f"/>
                </a:solidFill>
                <a:latin typeface="PF DinDisplay Pro Medium"/>
              </a:rPr>
              <a:t> </a:t>
            </a:r>
            <a:r>
              <a:rPr b="0" lang="ru-RU" sz="2000" spc="-1" strike="noStrike">
                <a:solidFill>
                  <a:srgbClr val="3c1b8f"/>
                </a:solidFill>
                <a:latin typeface="PF Din Text Comp Pro Medium"/>
              </a:rPr>
              <a:t>Подарки, выигрыши и призы (в лотереях, казино, тотализаторах, от участия в рекламных акциях, конкурсах, игровых автоматах</a:t>
            </a:r>
            <a:r>
              <a:rPr b="0" lang="ru-RU" sz="2000" spc="-1" strike="noStrike">
                <a:solidFill>
                  <a:srgbClr val="003380"/>
                </a:solidFill>
                <a:latin typeface="PF Din Text Comp Pro Medium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3"/>
          <p:cNvSpPr/>
          <p:nvPr/>
        </p:nvSpPr>
        <p:spPr>
          <a:xfrm>
            <a:off x="957240" y="4227480"/>
            <a:ext cx="6738840" cy="5763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b0f0"/>
              </a:gs>
              <a:gs pos="100000">
                <a:srgbClr val="cceff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2000" spc="-1" strike="noStrike">
                <a:solidFill>
                  <a:srgbClr val="3c1b8f"/>
                </a:solidFill>
                <a:latin typeface="PF Din Text Comp Pro Medium"/>
              </a:rPr>
              <a:t>Доходы, полученные от блогерской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22320" y="1200240"/>
            <a:ext cx="7764480" cy="9396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PF Din Text Comp Pro Medium"/>
              </a:rPr>
              <a:t>УДОБНО НАПРАВИТЬ ДЕКЛАРАЦИЮ 3-НДФЛ</a:t>
            </a:r>
            <a:br>
              <a:rPr sz="4000"/>
            </a:br>
            <a:r>
              <a:rPr b="0" lang="ru-RU" sz="2400" spc="-1" strike="noStrike">
                <a:solidFill>
                  <a:srgbClr val="463377"/>
                </a:solidFill>
                <a:latin typeface="PF Din Text Comp Pro Medium"/>
              </a:rPr>
              <a:t>ЧЕРЕЗ ЛИЧНЫЙ КАБИНЕТ НАЛОГОПЛАТЕЛЬЩИКА БЕЗ ЛИЧНОГО ВИЗИТА</a:t>
            </a:r>
            <a:endParaRPr b="1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41" name="Номер слайда 2"/>
          <p:cNvSpPr/>
          <p:nvPr/>
        </p:nvSpPr>
        <p:spPr>
          <a:xfrm>
            <a:off x="8402760" y="4398840"/>
            <a:ext cx="5047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pPr algn="ctr">
              <a:lnSpc>
                <a:spcPts val="1874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7459B2C-41EC-47E7-AE6E-9BE0A17FE626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Рисунок 4" descr=""/>
          <p:cNvPicPr/>
          <p:nvPr/>
        </p:nvPicPr>
        <p:blipFill>
          <a:blip r:embed="rId1"/>
          <a:srcRect l="21092" t="28835" r="20405" b="27956"/>
          <a:stretch/>
        </p:blipFill>
        <p:spPr>
          <a:xfrm>
            <a:off x="324000" y="411120"/>
            <a:ext cx="1198440" cy="1239840"/>
          </a:xfrm>
          <a:prstGeom prst="rect">
            <a:avLst/>
          </a:prstGeom>
          <a:ln w="0">
            <a:noFill/>
          </a:ln>
        </p:spPr>
      </p:pic>
      <p:sp>
        <p:nvSpPr>
          <p:cNvPr id="543" name="Прямоугольник 4"/>
          <p:cNvSpPr/>
          <p:nvPr/>
        </p:nvSpPr>
        <p:spPr>
          <a:xfrm>
            <a:off x="1619280" y="615960"/>
            <a:ext cx="633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УПРАВЛЕНИЕ ФЕДЕР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НАЛОГОВОЙ СЛУЖБЫ ПО ОРЕНБУРГ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Рисунок 18" descr=""/>
          <p:cNvPicPr/>
          <p:nvPr/>
        </p:nvPicPr>
        <p:blipFill>
          <a:blip r:embed="rId2"/>
          <a:srcRect l="2404" t="9641" r="10705" b="52953"/>
          <a:stretch/>
        </p:blipFill>
        <p:spPr>
          <a:xfrm>
            <a:off x="1403280" y="2066760"/>
            <a:ext cx="6697800" cy="1314720"/>
          </a:xfrm>
          <a:prstGeom prst="rect">
            <a:avLst/>
          </a:prstGeom>
          <a:ln w="0">
            <a:noFill/>
          </a:ln>
        </p:spPr>
      </p:pic>
      <p:grpSp>
        <p:nvGrpSpPr>
          <p:cNvPr id="545" name="Группа 6"/>
          <p:cNvGrpSpPr/>
          <p:nvPr/>
        </p:nvGrpSpPr>
        <p:grpSpPr>
          <a:xfrm>
            <a:off x="3191040" y="3772080"/>
            <a:ext cx="2768400" cy="981000"/>
            <a:chOff x="3191040" y="3772080"/>
            <a:chExt cx="2768400" cy="981000"/>
          </a:xfrm>
        </p:grpSpPr>
        <p:sp>
          <p:nvSpPr>
            <p:cNvPr id="546" name="TextBox 7"/>
            <p:cNvSpPr/>
            <p:nvPr/>
          </p:nvSpPr>
          <p:spPr>
            <a:xfrm>
              <a:off x="3191040" y="3772080"/>
              <a:ext cx="276840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ru-RU" sz="1300" spc="-1" strike="noStrike">
                  <a:solidFill>
                    <a:srgbClr val="463377"/>
                  </a:solidFill>
                  <a:latin typeface="PF Din Text Comp Pro Medium"/>
                </a:rPr>
                <a:t>ЛОГИН И ПАРОЛ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7" name="Рисунок 15" descr=""/>
            <p:cNvPicPr/>
            <p:nvPr/>
          </p:nvPicPr>
          <p:blipFill>
            <a:blip r:embed="rId3"/>
            <a:srcRect l="0" t="0" r="52408" b="61163"/>
            <a:stretch/>
          </p:blipFill>
          <p:spPr>
            <a:xfrm>
              <a:off x="3766320" y="4217400"/>
              <a:ext cx="1656000" cy="53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Прямоугольник 9"/>
          <p:cNvSpPr/>
          <p:nvPr/>
        </p:nvSpPr>
        <p:spPr>
          <a:xfrm>
            <a:off x="3537000" y="2401920"/>
            <a:ext cx="1886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PF Din Text Comp Pro Medium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PF Din Text Comp Pro Medium"/>
              </a:rPr>
              <a:t>       </a:t>
            </a:r>
            <a:r>
              <a:rPr b="1" lang="ru-RU" sz="1600" spc="-1" strike="noStrike">
                <a:solidFill>
                  <a:srgbClr val="c00000"/>
                </a:solidFill>
                <a:latin typeface="PF Din Text Comp Pro Medium"/>
              </a:rPr>
              <a:t>СПОСОБЫ ВХОДА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Группа 10"/>
          <p:cNvGrpSpPr/>
          <p:nvPr/>
        </p:nvGrpSpPr>
        <p:grpSpPr>
          <a:xfrm>
            <a:off x="684360" y="3887640"/>
            <a:ext cx="2246040" cy="831960"/>
            <a:chOff x="684360" y="3887640"/>
            <a:chExt cx="2246040" cy="831960"/>
          </a:xfrm>
        </p:grpSpPr>
        <p:pic>
          <p:nvPicPr>
            <p:cNvPr id="550" name="Рисунок 16" descr=""/>
            <p:cNvPicPr/>
            <p:nvPr/>
          </p:nvPicPr>
          <p:blipFill>
            <a:blip r:embed="rId4"/>
            <a:stretch/>
          </p:blipFill>
          <p:spPr>
            <a:xfrm>
              <a:off x="1044000" y="4216320"/>
              <a:ext cx="18198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Box 12"/>
            <p:cNvSpPr/>
            <p:nvPr/>
          </p:nvSpPr>
          <p:spPr>
            <a:xfrm>
              <a:off x="684360" y="3887640"/>
              <a:ext cx="22460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1" lang="ru-RU" sz="1300" spc="-1" strike="noStrike">
                  <a:solidFill>
                    <a:srgbClr val="005aa9"/>
                  </a:solidFill>
                  <a:latin typeface="Calibri"/>
                </a:rPr>
                <a:t>     </a:t>
              </a:r>
              <a:r>
                <a:rPr b="0" lang="ru-RU" sz="1200" spc="-1" strike="noStrike">
                  <a:solidFill>
                    <a:srgbClr val="463377"/>
                  </a:solidFill>
                  <a:latin typeface="PF Din Text Comp Pro Medium"/>
                </a:rPr>
                <a:t>УЧЕТНАЯ ЗАПИСЬ ЕСИ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Группа 13"/>
          <p:cNvGrpSpPr/>
          <p:nvPr/>
        </p:nvGrpSpPr>
        <p:grpSpPr>
          <a:xfrm>
            <a:off x="6118200" y="3887640"/>
            <a:ext cx="1893960" cy="865440"/>
            <a:chOff x="6118200" y="3887640"/>
            <a:chExt cx="1893960" cy="865440"/>
          </a:xfrm>
        </p:grpSpPr>
        <p:sp>
          <p:nvSpPr>
            <p:cNvPr id="553" name="TextBox 14"/>
            <p:cNvSpPr/>
            <p:nvPr/>
          </p:nvSpPr>
          <p:spPr>
            <a:xfrm>
              <a:off x="6118200" y="3887640"/>
              <a:ext cx="18939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ru-RU" sz="1000" spc="-1" strike="noStrike">
                  <a:solidFill>
                    <a:srgbClr val="463377"/>
                  </a:solidFill>
                  <a:latin typeface="PF Din Text Comp Pro Medium"/>
                </a:rPr>
                <a:t>ЭЛЕКТРОННАЯ ПОДПИС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Рисунок 26" descr=""/>
            <p:cNvPicPr/>
            <p:nvPr/>
          </p:nvPicPr>
          <p:blipFill>
            <a:blip r:embed="rId5"/>
            <a:srcRect l="55517" t="42537" r="0" b="0"/>
            <a:stretch/>
          </p:blipFill>
          <p:spPr>
            <a:xfrm>
              <a:off x="6486120" y="4216680"/>
              <a:ext cx="965880" cy="53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93720" y="4842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УПРАВЛЕНИЕ ФЕДЕРАЛЬНОЙ</a:t>
            </a:r>
            <a:br>
              <a:rPr sz="1600"/>
            </a:b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НАЛОГОВОЙ СЛУЖБЫ ПО ОРЕНБУРГСКОЙ ОБЛАСТИ</a:t>
            </a:r>
            <a:endParaRPr b="1" lang="en-US" sz="16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56" name="Номер слайда 2"/>
          <p:cNvSpPr/>
          <p:nvPr/>
        </p:nvSpPr>
        <p:spPr>
          <a:xfrm>
            <a:off x="8402760" y="4398840"/>
            <a:ext cx="5047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pPr algn="ctr">
              <a:lnSpc>
                <a:spcPts val="1874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C75A2E9-59E6-47CC-B8EF-B463687FADEA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Рисунок 4" descr=""/>
          <p:cNvPicPr/>
          <p:nvPr/>
        </p:nvPicPr>
        <p:blipFill>
          <a:blip r:embed="rId1"/>
          <a:srcRect l="21092" t="28835" r="20405" b="27956"/>
          <a:stretch/>
        </p:blipFill>
        <p:spPr>
          <a:xfrm>
            <a:off x="320760" y="387360"/>
            <a:ext cx="1198440" cy="1239840"/>
          </a:xfrm>
          <a:prstGeom prst="rect">
            <a:avLst/>
          </a:prstGeom>
          <a:ln w="0">
            <a:noFill/>
          </a:ln>
        </p:spPr>
      </p:pic>
      <p:sp>
        <p:nvSpPr>
          <p:cNvPr id="558" name="Прямоугольник 5"/>
          <p:cNvSpPr/>
          <p:nvPr/>
        </p:nvSpPr>
        <p:spPr>
          <a:xfrm>
            <a:off x="1116000" y="1450800"/>
            <a:ext cx="712800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ru-RU" sz="3600" spc="-1" strike="noStrike">
                <a:solidFill>
                  <a:srgbClr val="3c1b8f"/>
                </a:solidFill>
                <a:latin typeface="PF Din Text Comp Pro Medium"/>
              </a:rPr>
              <a:t>ВСЯ ИНФОРМАЦИЯ О ДЕКЛАРИРОВАНИИ ДОХ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ru-RU" sz="3000" spc="-1" strike="noStrike">
                <a:solidFill>
                  <a:srgbClr val="3c1b8f"/>
                </a:solidFill>
                <a:latin typeface="PF Din Text Comp Pro Medium"/>
              </a:rPr>
              <a:t>                            </a:t>
            </a:r>
            <a:r>
              <a:rPr b="0" lang="ru-RU" sz="3000" spc="-1" strike="noStrike">
                <a:solidFill>
                  <a:srgbClr val="3c1b8f"/>
                </a:solidFill>
                <a:latin typeface="PF Din Text Comp Pro Medium"/>
              </a:rPr>
              <a:t>на сайте ФНС Росс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ru-RU" sz="3000" spc="-1" strike="noStrike">
                <a:solidFill>
                  <a:srgbClr val="3c1b8f"/>
                </a:solidFill>
                <a:latin typeface="PF Din Text Comp Pro Medium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ru-RU" sz="3000" spc="-1" strike="noStrike">
                <a:solidFill>
                  <a:srgbClr val="3c1b8f"/>
                </a:solidFill>
                <a:latin typeface="PF Din Text Comp Pro Medium"/>
              </a:rPr>
              <a:t> </a:t>
            </a:r>
            <a:r>
              <a:rPr b="1" lang="en-US" sz="3000" spc="-1" strike="noStrike">
                <a:solidFill>
                  <a:srgbClr val="3c1b8f"/>
                </a:solidFill>
                <a:latin typeface="PF Din Text Comp Pro Medium"/>
              </a:rPr>
              <a:t>WWW.NALOG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1600" spc="-1" strike="noStrike">
                <a:solidFill>
                  <a:srgbClr val="3c1b8f"/>
                </a:solidFill>
                <a:latin typeface="PF Din Text Comp Pro Medium"/>
              </a:rPr>
              <a:t>КОНТАКТ-ЦЕНТР ФНС РОССИИ</a:t>
            </a:r>
            <a:r>
              <a:rPr b="0" lang="ru-RU" sz="2400" spc="-1" strike="noStrike">
                <a:solidFill>
                  <a:srgbClr val="3c1b8f"/>
                </a:solidFill>
                <a:latin typeface="PF Din Text Cond Pro Medium"/>
              </a:rPr>
              <a:t>: </a:t>
            </a:r>
            <a:r>
              <a:rPr b="0" lang="ru-RU" sz="1600" spc="-1" strike="noStrike">
                <a:solidFill>
                  <a:srgbClr val="3c1b8f"/>
                </a:solidFill>
                <a:latin typeface="PF Din Text Cond Pro Medium"/>
              </a:rPr>
              <a:t> </a:t>
            </a:r>
            <a:r>
              <a:rPr b="0" lang="en-US" sz="2800" spc="-1" strike="noStrike">
                <a:solidFill>
                  <a:srgbClr val="3c1b8f"/>
                </a:solidFill>
                <a:latin typeface="PF Din Text Comp Pro Medium"/>
              </a:rPr>
              <a:t>8-800-222-22-22</a:t>
            </a:r>
            <a:r>
              <a:rPr b="0" lang="ru-RU" sz="3200" spc="-1" strike="noStrike">
                <a:solidFill>
                  <a:srgbClr val="3c1b8f"/>
                </a:solidFill>
                <a:latin typeface="PF Din Text Cond Pro Medium"/>
              </a:rPr>
              <a:t> </a:t>
            </a:r>
            <a:r>
              <a:rPr b="0" lang="ru-RU" sz="1600" spc="-1" strike="noStrike">
                <a:solidFill>
                  <a:srgbClr val="3c1b8f"/>
                </a:solidFill>
                <a:latin typeface="PF Din Text Comp Pro Medium"/>
              </a:rPr>
              <a:t>ЗВОНОК БЕСПЛА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3200" spc="-1" strike="noStrike">
                <a:solidFill>
                  <a:srgbClr val="3c1b8f"/>
                </a:solidFill>
                <a:latin typeface="PF Din Text Cond Pro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3200" spc="-1" strike="noStrike">
                <a:solidFill>
                  <a:srgbClr val="3c1b8f"/>
                </a:solidFill>
                <a:latin typeface="PF Din Text Cond Pro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16000" y="1200240"/>
            <a:ext cx="7570800" cy="13716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PF Din Text Comp Pro Medium"/>
              </a:rPr>
              <a:t>ДНИ ОТКРЫТЫХ ДВЕРЕЙ</a:t>
            </a:r>
            <a:endParaRPr b="1" lang="en-US" sz="4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60" name="Номер слайда 2"/>
          <p:cNvSpPr/>
          <p:nvPr/>
        </p:nvSpPr>
        <p:spPr>
          <a:xfrm>
            <a:off x="8402760" y="4398840"/>
            <a:ext cx="5047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pPr algn="ctr">
              <a:lnSpc>
                <a:spcPts val="1874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2624FA0-3636-4FC9-9770-73BBB62C8276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Рисунок 4" descr=""/>
          <p:cNvPicPr/>
          <p:nvPr/>
        </p:nvPicPr>
        <p:blipFill>
          <a:blip r:embed="rId1"/>
          <a:srcRect l="21092" t="28835" r="20405" b="27956"/>
          <a:stretch/>
        </p:blipFill>
        <p:spPr>
          <a:xfrm>
            <a:off x="324000" y="411120"/>
            <a:ext cx="1198440" cy="123984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4"/>
          <p:cNvSpPr/>
          <p:nvPr/>
        </p:nvSpPr>
        <p:spPr>
          <a:xfrm>
            <a:off x="1619280" y="6159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УПРАВЛЕНИЕ ФЕДЕР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НАЛОГОВОЙ СЛУЖБЫ ПО ОРЕНБУРГ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2"/>
          <p:cNvGrpSpPr/>
          <p:nvPr/>
        </p:nvGrpSpPr>
        <p:grpSpPr>
          <a:xfrm>
            <a:off x="5867280" y="1995480"/>
            <a:ext cx="2449800" cy="2778120"/>
            <a:chOff x="5867280" y="1995480"/>
            <a:chExt cx="2449800" cy="2778120"/>
          </a:xfrm>
        </p:grpSpPr>
        <p:pic>
          <p:nvPicPr>
            <p:cNvPr id="564" name="Picture 3" descr="shutterstock_129936644-700x458"/>
            <p:cNvPicPr/>
            <p:nvPr/>
          </p:nvPicPr>
          <p:blipFill>
            <a:blip r:embed="rId2"/>
            <a:srcRect l="0" t="0" r="7498" b="0"/>
            <a:stretch/>
          </p:blipFill>
          <p:spPr>
            <a:xfrm>
              <a:off x="5867280" y="1995480"/>
              <a:ext cx="2449800" cy="2778120"/>
            </a:xfrm>
            <a:prstGeom prst="rect">
              <a:avLst/>
            </a:prstGeom>
            <a:ln w="63360">
              <a:solidFill>
                <a:srgbClr val="f2f2f2"/>
              </a:solidFill>
              <a:miter/>
            </a:ln>
            <a:effectLst>
              <a:outerShdw dist="99192" dir="3018055" blurRad="0" rotWithShape="0">
                <a:srgbClr val="b2b2b2">
                  <a:alpha val="50000"/>
                </a:srgbClr>
              </a:outerShdw>
            </a:effectLst>
          </p:spPr>
        </p:pic>
        <p:pic>
          <p:nvPicPr>
            <p:cNvPr id="565" name="Picture 4" descr="001306"/>
            <p:cNvPicPr/>
            <p:nvPr/>
          </p:nvPicPr>
          <p:blipFill>
            <a:blip r:embed="rId3"/>
            <a:srcRect l="2765" t="2502" r="3698" b="2331"/>
            <a:stretch/>
          </p:blipFill>
          <p:spPr>
            <a:xfrm>
              <a:off x="7349760" y="2298240"/>
              <a:ext cx="967320" cy="174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Прямоугольник 8"/>
          <p:cNvSpPr/>
          <p:nvPr/>
        </p:nvSpPr>
        <p:spPr>
          <a:xfrm>
            <a:off x="684360" y="2303640"/>
            <a:ext cx="5742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4000" spc="-1" strike="noStrike">
                <a:solidFill>
                  <a:srgbClr val="3c1b8f"/>
                </a:solidFill>
                <a:latin typeface="PF Din Text Comp Pro Medium"/>
              </a:rPr>
              <a:t>23 и 24 марта, 24 апре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800" spc="-1" strike="noStrike">
                <a:solidFill>
                  <a:srgbClr val="3c1b8f"/>
                </a:solidFill>
                <a:latin typeface="PF Din Text Comp Pro Medium"/>
              </a:rPr>
              <a:t>время работы с 08.30 до19.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4000" spc="-1" strike="noStrike">
                <a:solidFill>
                  <a:srgbClr val="3c1b8f"/>
                </a:solidFill>
                <a:latin typeface="PF Din Text Comp Pro Medium"/>
              </a:rPr>
              <a:t>25 апреля - </a:t>
            </a:r>
            <a:r>
              <a:rPr b="0" lang="ru-RU" sz="2800" spc="-1" strike="noStrike">
                <a:solidFill>
                  <a:srgbClr val="3c1b8f"/>
                </a:solidFill>
                <a:latin typeface="PF Din Text Comp Pro Medium"/>
              </a:rPr>
              <a:t>суббота</a:t>
            </a:r>
            <a:r>
              <a:rPr b="0" lang="ru-RU" sz="4000" spc="-1" strike="noStrike">
                <a:solidFill>
                  <a:srgbClr val="3c1b8f"/>
                </a:solidFill>
                <a:latin typeface="PF Din Text Comp Pro Medium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800" spc="-1" strike="noStrike">
                <a:solidFill>
                  <a:srgbClr val="3c1b8f"/>
                </a:solidFill>
                <a:latin typeface="PF Din Text Comp Pro Medium"/>
              </a:rPr>
              <a:t>время работы с 09.00 до 15.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15640" y="1679400"/>
            <a:ext cx="7164360" cy="14241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br>
              <a:rPr sz="3800"/>
            </a:br>
            <a:br>
              <a:rPr sz="3800"/>
            </a:br>
            <a:r>
              <a:rPr b="0" lang="ru-RU" sz="4200" spc="-1" strike="noStrike">
                <a:solidFill>
                  <a:srgbClr val="463377"/>
                </a:solidFill>
                <a:latin typeface="PF Din Text Comp Pro Medium"/>
              </a:rPr>
              <a:t>ЗА НЕПРЕДСТАВЛЕНИЕ ДЕКЛАРАЦИИ                 3-НДФЛ</a:t>
            </a:r>
            <a:br>
              <a:rPr sz="4200"/>
            </a:br>
            <a:r>
              <a:rPr b="1" lang="ru-RU" sz="3800" spc="-1" strike="noStrike">
                <a:solidFill>
                  <a:srgbClr val="005aa9"/>
                </a:solidFill>
                <a:latin typeface="Calibri"/>
              </a:rPr>
              <a:t>  </a:t>
            </a:r>
            <a:r>
              <a:rPr b="1" lang="ru-RU" sz="3800" spc="-1" strike="noStrike">
                <a:solidFill>
                  <a:srgbClr val="c00000"/>
                </a:solidFill>
                <a:latin typeface="PF Din Text Cond Pro Medium"/>
              </a:rPr>
              <a:t>ШТРАФ НЕ МЕНЕЕ</a:t>
            </a:r>
            <a:br>
              <a:rPr sz="3800"/>
            </a:br>
            <a:r>
              <a:rPr b="1" lang="ru-RU" sz="3800" spc="-1" strike="noStrike">
                <a:solidFill>
                  <a:srgbClr val="c00000"/>
                </a:solidFill>
                <a:latin typeface="PF Din Text Cond Pro Medium"/>
              </a:rPr>
              <a:t>1000 РУБЛЕЙ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68" name="Номер слайда 2"/>
          <p:cNvSpPr/>
          <p:nvPr/>
        </p:nvSpPr>
        <p:spPr>
          <a:xfrm>
            <a:off x="8402760" y="4398840"/>
            <a:ext cx="5047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pPr algn="ctr">
              <a:lnSpc>
                <a:spcPts val="1874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BBDCF7D-40AB-415D-9D7B-65DF842E5170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Рисунок 4" descr=""/>
          <p:cNvPicPr/>
          <p:nvPr/>
        </p:nvPicPr>
        <p:blipFill>
          <a:blip r:embed="rId1"/>
          <a:srcRect l="21092" t="28835" r="20405" b="27956"/>
          <a:stretch/>
        </p:blipFill>
        <p:spPr>
          <a:xfrm>
            <a:off x="343080" y="439560"/>
            <a:ext cx="1276200" cy="123984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4"/>
          <p:cNvSpPr/>
          <p:nvPr/>
        </p:nvSpPr>
        <p:spPr>
          <a:xfrm>
            <a:off x="1619280" y="6159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УПРАВЛЕНИЕ ФЕДЕР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НАЛОГОВОЙ СЛУЖБЫ ПО ОРЕНБУРГ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07:44:32Z</dcterms:created>
  <dc:creator>5600-01-319</dc:creator>
  <dc:description/>
  <dc:language>en-US</dc:language>
  <cp:lastModifiedBy>Администратор</cp:lastModifiedBy>
  <cp:lastPrinted>2020-02-03T10:08:51Z</cp:lastPrinted>
  <dcterms:modified xsi:type="dcterms:W3CDTF">2020-02-26T06:02:35Z</dcterms:modified>
  <cp:revision>86</cp:revision>
  <dc:subject/>
  <dc:title>Слайд 1</dc:title>
</cp:coreProperties>
</file>