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169-8EEB-40D5-9406-4F86052E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765-8D1E-467D-85E7-37B6933A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5CE0F-8C98-498E-8353-5ABE7EBBBB7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CD744-64C5-4FCB-AEB3-76D30B210CE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EA680-94E3-4AA9-A9C8-1A0E8F65EA7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95F02-A828-4004-BE8B-F2FC0F3D82D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8BCA1-7E50-45C1-B0AB-F25E89E26F9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4C1FE-A7C7-4407-989C-A60C43FED47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7FCA9-E8A1-4139-8306-C95C41B2C81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D4C1F-C5F4-4BC0-8DF2-45C1F97C8A3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780E5-2C47-4E6C-A443-46694A054D3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3A4-B483-48D7-B09F-B8B054A6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3B5-DDA7-43A6-853C-CBA9CB9A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4EF93-1048-477A-9AB8-C9BC6C54FF6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AD050-7768-4B2F-B713-A877457D6DD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344422-CE15-4B54-915E-2CAFE7FB3CA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181E6-4F5E-4A46-87DC-AD8060E5764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D1794-D002-48E0-8AA1-B29BB7D086D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6D0AF-6837-4530-B5D7-97AA29FDCE9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79A0D-7E1B-4BAE-B7C0-BFA040F80D6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C20FCB-1E6D-4368-A1C0-B9E09960CFF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D939E3-5126-4D55-86A7-BF5E8869D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08386F-A7AB-452B-BB97-D17C1879388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28AE5-0DD0-4DA9-8BBA-1D2EA3DB98C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6470D-30F4-4441-A8D6-6BDB5EB35E7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97F-F180-4A05-B199-186C30A0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9FD-FEB1-410E-9842-9817E9D0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09859-8381-47E9-9E71-DE953EC10B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90C1A-E7A4-42D5-B071-5C77DE96C6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0CEF5-5BD8-4C18-9C4A-EAE1363F6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08C-6DEA-4DEB-BAD8-EE64FC41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3A25B-A5F7-43E9-9F94-E762E9625E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E33C4-CEAA-4281-9A0D-7C09B26869D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46653-C579-49A4-A873-9B96D208D9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54FA1-0E63-40C3-94BA-A0477928D3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631EA-FDB7-4BCA-A963-AABBF8557C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8B0A4-C425-4484-BCF3-FB25E432F4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435B2-0680-44CD-86CE-579E832D17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FFBA9-9F8E-491C-910B-E243166387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CA78C-E45B-4499-8DA5-1645BC52757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D1B97-8E4A-49F8-9007-FFAD65481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5FA-D078-4428-B70A-51B264A6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791C1-63BB-415B-9F3C-9C3C3A41D51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1C95B-E5F3-449E-9432-B858089BEF8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A7B4E-554F-4722-9A07-160B25CF891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73A22-8855-4B62-9C0D-FB2C8F594B8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47484-6967-4FD8-BB26-1E59EA3C3F0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6DE5D-0338-411A-A6A8-6F07476E994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CF04B-483E-4095-9127-D73D5FDF71A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783F3-DDFC-49B7-8411-21EF2A5C2CB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D3EB3-2DFE-4FDC-A8FC-D25E0B9CE0D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364C0-BCCA-491E-8131-37ABFF29D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8F5-E8BD-40E2-B4CB-71E94B46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26E9D-89C2-4074-8E27-2BA2D4EADAB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202F-AF97-4DA8-8739-0113BC82492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7FCD-0DC3-442B-AE85-274F9D9043A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A926-5693-482C-BB69-DD38A5D4F7E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C7DC-09E8-4EA2-B48F-395F2F22E95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C1B4-C8A1-457B-BD73-D43BA6C3005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7E7C-392B-4B02-A5DB-D98C0E516DE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A029-8733-4F63-90C2-7B6C6DA98BF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D40D-879F-4544-AE02-DE324DDE586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AF23-09C8-46BE-A0AA-9775EF524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AE01-FB36-48B0-9307-98A2BAC6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53B4-D7A7-40F0-9C82-2C90F206F9A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0C6D-94C6-4A2C-9C48-462C84A2F26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61FA-71D4-46EB-9EA6-FC4768E3609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85119F-CC95-456E-BE2B-ACB550540FC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BA38B8-03DA-450E-B4FE-91A787DCDB1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694F71-76A8-4B49-8125-497AD94C6D6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F1A478-40F5-4F83-839A-34C2BA5F418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323A2A-F0A4-4967-AE3B-BDD76E54843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20B3D0-360B-46CB-8BCF-FC7F53ACB17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A8CD00-2F16-48C0-9468-BBDAAB667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409-DE1A-4C16-A6FD-978DD7D9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279032-4573-437F-8756-8E539341CE9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2BCEC0-A0FA-431F-9524-8D9CE2698DC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5AD7A1-9864-4857-98D3-7B10D61DD6A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D73E54-349D-42CE-87D7-5FB3CB29BFC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EAA323-7F64-4A3D-A289-3839C1D5AC6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178-C1DD-4B71-B851-14889779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03B1E-630C-461F-A3EB-22E164B2AA6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39321-3626-4FAF-BCF0-FDD5F12D2DB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E1F55-50F3-4852-9401-5016D75E3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0061740-37EA-4667-8DD9-C8A85954DC08}" type="datetime">
              <a:rPr b="0" lang="ru-RU" sz="11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BCCD76A-9A6E-4349-9693-FD85D012D567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AF16A96-B7BA-49B9-A150-EA1E3D6F790A}" type="datetime">
              <a:rPr b="0" lang="ru-RU" sz="11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1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1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E51C5DD-31D0-4BDD-9CA9-DB4BF8921C01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A73D8DA-7A82-4252-9D36-E5425B47476E}" type="datetime">
              <a:rPr b="0" lang="ru-RU" sz="11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1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3DB6C67-3B58-42A6-B2B3-EDCE75C47939}" type="datetime">
              <a:rPr b="0" lang="ru-RU" sz="11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Z:\Projects\Текущие\Проектная\FNS_2012\_БРЭНДБУК\out\PPT\3_1_present_16.9-01.png"/>
          <p:cNvPicPr/>
          <p:nvPr/>
        </p:nvPicPr>
        <p:blipFill>
          <a:blip r:embed="rId3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Z:\Projects\Текущие\Проектная\FNS_2012\_БРЭНДБУК\out\PPT\3_1_present_16.9-0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5925960" y="3844800"/>
            <a:ext cx="924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85CB94E-342C-4B15-8CD7-AEB9E8910157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5925960" y="3844800"/>
            <a:ext cx="924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E98C231-FAAA-45E5-BDE8-366C6234535D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Z:\Projects\Текущие\Проектная\FNS_2012\_БРЭНДБУК\out\PPT\3_1_present_16.9-04.png"/>
          <p:cNvPicPr/>
          <p:nvPr/>
        </p:nvPicPr>
        <p:blipFill>
          <a:blip r:embed="rId3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6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F7FFC47-8833-41CC-B1AB-51131F3D6D09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Z:\Projects\Текущие\Проектная\FNS_2012\_БРЭНДБУК\out\PPT\3_1_present_16.9-04.png"/>
          <p:cNvPicPr/>
          <p:nvPr/>
        </p:nvPicPr>
        <p:blipFill>
          <a:blip r:embed="rId3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7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771F076-23A7-42E5-80F2-90CC988D483A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Z:\Projects\Текущие\Проектная\FNS_2012\_БРЭНДБУК\out\PPT\3_1_present_16.9-0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8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239D517-4044-4CFD-BB92-5C0980128A3C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77880" y="936720"/>
            <a:ext cx="6103800" cy="3579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ru-RU" sz="4700" spc="-1" strike="noStrike">
              <a:solidFill>
                <a:srgbClr val="8d8c90"/>
              </a:solidFill>
              <a:latin typeface="Calibri"/>
            </a:endParaRPr>
          </a:p>
        </p:txBody>
      </p:sp>
      <p:pic>
        <p:nvPicPr>
          <p:cNvPr id="530" name="Picture 2" descr="C:\Users\5600-03-410\Desktop\Баннер 2020.JPG"/>
          <p:cNvPicPr/>
          <p:nvPr/>
        </p:nvPicPr>
        <p:blipFill>
          <a:blip r:embed="rId1"/>
          <a:stretch/>
        </p:blipFill>
        <p:spPr>
          <a:xfrm>
            <a:off x="-108000" y="0"/>
            <a:ext cx="957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90560" y="1634760"/>
            <a:ext cx="7067520" cy="142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3800" spc="-1" strike="noStrike">
                <a:solidFill>
                  <a:srgbClr val="005aa9"/>
                </a:solidFill>
                <a:latin typeface="Calibri"/>
              </a:rPr>
              <a:t>     </a:t>
            </a:r>
            <a:br>
              <a:rPr sz="3800"/>
            </a:br>
            <a:r>
              <a:rPr b="1" lang="ru-RU" sz="3800" spc="-1" strike="noStrike">
                <a:solidFill>
                  <a:srgbClr val="005aa9"/>
                </a:solidFill>
                <a:latin typeface="Calibri"/>
              </a:rPr>
              <a:t>              </a:t>
            </a:r>
            <a:r>
              <a:rPr b="0" lang="ru-RU" sz="3600" spc="-1" strike="noStrike">
                <a:solidFill>
                  <a:srgbClr val="3c1b8f"/>
                </a:solidFill>
                <a:latin typeface="PF Din Text Comp Pro Medium"/>
              </a:rPr>
              <a:t>ОБЯЗАННОСТЬ:</a:t>
            </a:r>
            <a:br>
              <a:rPr sz="3600"/>
            </a:br>
            <a:r>
              <a:rPr b="1" lang="ru-RU" sz="3800" spc="-1" strike="noStrike">
                <a:solidFill>
                  <a:srgbClr val="005aa9"/>
                </a:solidFill>
                <a:latin typeface="Calibri"/>
              </a:rPr>
              <a:t> 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32" name="Номер слайда 2"/>
          <p:cNvSpPr/>
          <p:nvPr/>
        </p:nvSpPr>
        <p:spPr>
          <a:xfrm>
            <a:off x="8402760" y="4398840"/>
            <a:ext cx="504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0211AEC-10E2-476E-AB01-88FC8A8AA2F1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Рисунок 4" descr=""/>
          <p:cNvPicPr/>
          <p:nvPr/>
        </p:nvPicPr>
        <p:blipFill>
          <a:blip r:embed="rId1"/>
          <a:srcRect l="21095" t="28835" r="20399" b="27957"/>
          <a:stretch/>
        </p:blipFill>
        <p:spPr>
          <a:xfrm>
            <a:off x="333360" y="411120"/>
            <a:ext cx="1225440" cy="1224000"/>
          </a:xfrm>
          <a:prstGeom prst="rect">
            <a:avLst/>
          </a:prstGeom>
          <a:ln w="0">
            <a:noFill/>
          </a:ln>
        </p:spPr>
      </p:pic>
      <p:sp>
        <p:nvSpPr>
          <p:cNvPr id="534" name="Прямоугольник 4"/>
          <p:cNvSpPr/>
          <p:nvPr/>
        </p:nvSpPr>
        <p:spPr>
          <a:xfrm>
            <a:off x="1692360" y="62712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УПРАВЛЕНИЕ ФЕДЕР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НАЛОГОВОЙ СЛУЖБЫ ПО ОРЕНБУРГ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977760" y="1924200"/>
            <a:ext cx="6707160" cy="647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cceff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2000" spc="-1" strike="noStrike">
                <a:solidFill>
                  <a:srgbClr val="3c1b8f"/>
                </a:solidFill>
                <a:latin typeface="PF Din Text Comp Pro Medium"/>
              </a:rPr>
              <a:t>Вознаграждения по гражданско-правовым договорам, в том числе  от сдачи имущества в арен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971640" y="2643120"/>
            <a:ext cx="6724440" cy="7207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cceff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2000" spc="-1" strike="noStrike">
                <a:solidFill>
                  <a:srgbClr val="3c1b8f"/>
                </a:solidFill>
                <a:latin typeface="PF Din Text Comp Pro Medium"/>
              </a:rPr>
              <a:t>Продажа имущества, находящегося в собственности меньше минимального срока вла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946080" y="3435480"/>
            <a:ext cx="6697800" cy="285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cceff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1200" spc="-1" strike="noStrike">
                <a:solidFill>
                  <a:srgbClr val="003380"/>
                </a:solidFill>
                <a:latin typeface="PF DinDisplay Pro Medium"/>
              </a:rPr>
              <a:t> </a:t>
            </a:r>
            <a:r>
              <a:rPr b="0" lang="ru-RU" sz="1200" spc="-1" strike="noStrike">
                <a:solidFill>
                  <a:srgbClr val="003380"/>
                </a:solidFill>
                <a:latin typeface="PF DinDisplay Pro Medium"/>
              </a:rPr>
              <a:t>Выигрыши и призы (в лотереях, казино, тотализаторах, от участия в рекламных акциях, конкурсах, игровых автоматах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3"/>
          <p:cNvSpPr/>
          <p:nvPr/>
        </p:nvSpPr>
        <p:spPr>
          <a:xfrm>
            <a:off x="946080" y="3435480"/>
            <a:ext cx="6738840" cy="7207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cceff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1200" spc="-1" strike="noStrike">
                <a:solidFill>
                  <a:srgbClr val="3c1b8f"/>
                </a:solidFill>
                <a:latin typeface="PF DinDisplay Pro Medium"/>
              </a:rPr>
              <a:t> </a:t>
            </a:r>
            <a:r>
              <a:rPr b="0" lang="ru-RU" sz="2000" spc="-1" strike="noStrike">
                <a:solidFill>
                  <a:srgbClr val="3c1b8f"/>
                </a:solidFill>
                <a:latin typeface="PF Din Text Comp Pro Medium"/>
              </a:rPr>
              <a:t>Подарки, выигрыши и призы (в лотереях, казино, тотализаторах, от участия в рекламных акциях, конкурсах, игровых автоматах</a:t>
            </a:r>
            <a:r>
              <a:rPr b="0" lang="ru-RU" sz="2000" spc="-1" strike="noStrike">
                <a:solidFill>
                  <a:srgbClr val="003380"/>
                </a:solidFill>
                <a:latin typeface="PF Din Text Comp Pro Medium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3"/>
          <p:cNvSpPr/>
          <p:nvPr/>
        </p:nvSpPr>
        <p:spPr>
          <a:xfrm>
            <a:off x="957240" y="4227480"/>
            <a:ext cx="6738840" cy="5763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cceff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2000" spc="-1" strike="noStrike">
                <a:solidFill>
                  <a:srgbClr val="3c1b8f"/>
                </a:solidFill>
                <a:latin typeface="PF Din Text Comp Pro Medium"/>
              </a:rPr>
              <a:t>Доходы, полученные от блогерск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22320" y="1200240"/>
            <a:ext cx="7764480" cy="9396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PF Din Text Comp Pro Medium"/>
              </a:rPr>
              <a:t>УДОБНО НАПРАВИТЬ ДЕКЛАРАЦИЮ 3-НДФЛ</a:t>
            </a:r>
            <a:br>
              <a:rPr sz="4000"/>
            </a:br>
            <a:r>
              <a:rPr b="0" lang="ru-RU" sz="2400" spc="-1" strike="noStrike">
                <a:solidFill>
                  <a:srgbClr val="463377"/>
                </a:solidFill>
                <a:latin typeface="PF Din Text Comp Pro Medium"/>
              </a:rPr>
              <a:t>ЧЕРЕЗ ЛИЧНЫЙ КАБИНЕТ НАЛОГОПЛАТЕЛЬЩИКА БЕЗ ЛИЧНОГО ВИЗИТА</a:t>
            </a:r>
            <a:endParaRPr b="1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41" name="Номер слайда 2"/>
          <p:cNvSpPr/>
          <p:nvPr/>
        </p:nvSpPr>
        <p:spPr>
          <a:xfrm>
            <a:off x="8402760" y="4398840"/>
            <a:ext cx="504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DADEA56-C3BA-4A40-A99C-37AB974C3D41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Рисунок 4" descr=""/>
          <p:cNvPicPr/>
          <p:nvPr/>
        </p:nvPicPr>
        <p:blipFill>
          <a:blip r:embed="rId1"/>
          <a:srcRect l="21092" t="28835" r="20405" b="27956"/>
          <a:stretch/>
        </p:blipFill>
        <p:spPr>
          <a:xfrm>
            <a:off x="324000" y="411120"/>
            <a:ext cx="1198440" cy="1239840"/>
          </a:xfrm>
          <a:prstGeom prst="rect">
            <a:avLst/>
          </a:prstGeom>
          <a:ln w="0">
            <a:noFill/>
          </a:ln>
        </p:spPr>
      </p:pic>
      <p:sp>
        <p:nvSpPr>
          <p:cNvPr id="543" name="Прямоугольник 4"/>
          <p:cNvSpPr/>
          <p:nvPr/>
        </p:nvSpPr>
        <p:spPr>
          <a:xfrm>
            <a:off x="1619280" y="615960"/>
            <a:ext cx="63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УПРАВЛЕНИЕ ФЕДЕР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НАЛОГОВОЙ СЛУЖБЫ ПО ОРЕНБУРГ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Рисунок 18" descr=""/>
          <p:cNvPicPr/>
          <p:nvPr/>
        </p:nvPicPr>
        <p:blipFill>
          <a:blip r:embed="rId2"/>
          <a:srcRect l="2404" t="9641" r="10705" b="52953"/>
          <a:stretch/>
        </p:blipFill>
        <p:spPr>
          <a:xfrm>
            <a:off x="1403280" y="2066760"/>
            <a:ext cx="6697800" cy="1314720"/>
          </a:xfrm>
          <a:prstGeom prst="rect">
            <a:avLst/>
          </a:prstGeom>
          <a:ln w="0">
            <a:noFill/>
          </a:ln>
        </p:spPr>
      </p:pic>
      <p:grpSp>
        <p:nvGrpSpPr>
          <p:cNvPr id="545" name="Группа 6"/>
          <p:cNvGrpSpPr/>
          <p:nvPr/>
        </p:nvGrpSpPr>
        <p:grpSpPr>
          <a:xfrm>
            <a:off x="3191040" y="3772080"/>
            <a:ext cx="2768400" cy="981000"/>
            <a:chOff x="3191040" y="3772080"/>
            <a:chExt cx="2768400" cy="981000"/>
          </a:xfrm>
        </p:grpSpPr>
        <p:sp>
          <p:nvSpPr>
            <p:cNvPr id="546" name="TextBox 7"/>
            <p:cNvSpPr/>
            <p:nvPr/>
          </p:nvSpPr>
          <p:spPr>
            <a:xfrm>
              <a:off x="3191040" y="3772080"/>
              <a:ext cx="276840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ru-RU" sz="1300" spc="-1" strike="noStrike">
                  <a:solidFill>
                    <a:srgbClr val="463377"/>
                  </a:solidFill>
                  <a:latin typeface="PF Din Text Comp Pro Medium"/>
                </a:rPr>
                <a:t>ЛОГИН И ПАРОЛ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Рисунок 15" descr=""/>
            <p:cNvPicPr/>
            <p:nvPr/>
          </p:nvPicPr>
          <p:blipFill>
            <a:blip r:embed="rId3"/>
            <a:srcRect l="0" t="0" r="52408" b="61163"/>
            <a:stretch/>
          </p:blipFill>
          <p:spPr>
            <a:xfrm>
              <a:off x="3766320" y="4217400"/>
              <a:ext cx="1656000" cy="53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Прямоугольник 9"/>
          <p:cNvSpPr/>
          <p:nvPr/>
        </p:nvSpPr>
        <p:spPr>
          <a:xfrm>
            <a:off x="3537000" y="2401920"/>
            <a:ext cx="1886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PF Din Text Comp Pro Medium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PF Din Text Comp Pro Medium"/>
              </a:rPr>
              <a:t>       </a:t>
            </a:r>
            <a:r>
              <a:rPr b="1" lang="ru-RU" sz="1600" spc="-1" strike="noStrike">
                <a:solidFill>
                  <a:srgbClr val="c00000"/>
                </a:solidFill>
                <a:latin typeface="PF Din Text Comp Pro Medium"/>
              </a:rPr>
              <a:t>СПОСОБЫ ВХОДА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Группа 10"/>
          <p:cNvGrpSpPr/>
          <p:nvPr/>
        </p:nvGrpSpPr>
        <p:grpSpPr>
          <a:xfrm>
            <a:off x="684360" y="3887640"/>
            <a:ext cx="2246040" cy="831960"/>
            <a:chOff x="684360" y="3887640"/>
            <a:chExt cx="2246040" cy="831960"/>
          </a:xfrm>
        </p:grpSpPr>
        <p:pic>
          <p:nvPicPr>
            <p:cNvPr id="550" name="Рисунок 16" descr=""/>
            <p:cNvPicPr/>
            <p:nvPr/>
          </p:nvPicPr>
          <p:blipFill>
            <a:blip r:embed="rId4"/>
            <a:stretch/>
          </p:blipFill>
          <p:spPr>
            <a:xfrm>
              <a:off x="1044000" y="4216320"/>
              <a:ext cx="18198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Box 12"/>
            <p:cNvSpPr/>
            <p:nvPr/>
          </p:nvSpPr>
          <p:spPr>
            <a:xfrm>
              <a:off x="684360" y="3887640"/>
              <a:ext cx="22460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lang="ru-RU" sz="1300" spc="-1" strike="noStrike">
                  <a:solidFill>
                    <a:srgbClr val="005aa9"/>
                  </a:solidFill>
                  <a:latin typeface="Calibri"/>
                </a:rPr>
                <a:t>     </a:t>
              </a:r>
              <a:r>
                <a:rPr b="0" lang="ru-RU" sz="1200" spc="-1" strike="noStrike">
                  <a:solidFill>
                    <a:srgbClr val="463377"/>
                  </a:solidFill>
                  <a:latin typeface="PF Din Text Comp Pro Medium"/>
                </a:rPr>
                <a:t>УЧЕТНАЯ ЗАПИСЬ ЕСИ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Группа 13"/>
          <p:cNvGrpSpPr/>
          <p:nvPr/>
        </p:nvGrpSpPr>
        <p:grpSpPr>
          <a:xfrm>
            <a:off x="6118200" y="3887640"/>
            <a:ext cx="1893960" cy="865440"/>
            <a:chOff x="6118200" y="3887640"/>
            <a:chExt cx="1893960" cy="865440"/>
          </a:xfrm>
        </p:grpSpPr>
        <p:sp>
          <p:nvSpPr>
            <p:cNvPr id="553" name="TextBox 14"/>
            <p:cNvSpPr/>
            <p:nvPr/>
          </p:nvSpPr>
          <p:spPr>
            <a:xfrm>
              <a:off x="6118200" y="3887640"/>
              <a:ext cx="18939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ru-RU" sz="1000" spc="-1" strike="noStrike">
                  <a:solidFill>
                    <a:srgbClr val="463377"/>
                  </a:solidFill>
                  <a:latin typeface="PF Din Text Comp Pro Medium"/>
                </a:rPr>
                <a:t>ЭЛЕКТРОННАЯ ПОДПИС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Рисунок 26" descr=""/>
            <p:cNvPicPr/>
            <p:nvPr/>
          </p:nvPicPr>
          <p:blipFill>
            <a:blip r:embed="rId5"/>
            <a:srcRect l="55517" t="42537" r="0" b="0"/>
            <a:stretch/>
          </p:blipFill>
          <p:spPr>
            <a:xfrm>
              <a:off x="6486120" y="4216680"/>
              <a:ext cx="96588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93720" y="4842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УПРАВЛЕНИЕ ФЕДЕРАЛЬНОЙ</a:t>
            </a:r>
            <a:br>
              <a:rPr sz="1600"/>
            </a:b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НАЛОГОВОЙ СЛУЖБЫ ПО ОРЕНБУРГСКОЙ ОБЛАСТИ</a:t>
            </a:r>
            <a:endParaRPr b="1" lang="en-US" sz="16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56" name="Номер слайда 2"/>
          <p:cNvSpPr/>
          <p:nvPr/>
        </p:nvSpPr>
        <p:spPr>
          <a:xfrm>
            <a:off x="8402760" y="4398840"/>
            <a:ext cx="504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B49C83C-5B6B-4ECD-ACC1-7A09C7462C33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Рисунок 4" descr=""/>
          <p:cNvPicPr/>
          <p:nvPr/>
        </p:nvPicPr>
        <p:blipFill>
          <a:blip r:embed="rId1"/>
          <a:srcRect l="21092" t="28835" r="20405" b="27956"/>
          <a:stretch/>
        </p:blipFill>
        <p:spPr>
          <a:xfrm>
            <a:off x="320760" y="387360"/>
            <a:ext cx="1198440" cy="1239840"/>
          </a:xfrm>
          <a:prstGeom prst="rect">
            <a:avLst/>
          </a:prstGeom>
          <a:ln w="0">
            <a:noFill/>
          </a:ln>
        </p:spPr>
      </p:pic>
      <p:sp>
        <p:nvSpPr>
          <p:cNvPr id="558" name="Прямоугольник 5"/>
          <p:cNvSpPr/>
          <p:nvPr/>
        </p:nvSpPr>
        <p:spPr>
          <a:xfrm>
            <a:off x="1116000" y="1450800"/>
            <a:ext cx="712800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3600" spc="-1" strike="noStrike">
                <a:solidFill>
                  <a:srgbClr val="3c1b8f"/>
                </a:solidFill>
                <a:latin typeface="PF Din Text Comp Pro Medium"/>
              </a:rPr>
              <a:t>ВСЯ ИНФОРМАЦИЯ О ДЕКЛАРИРОВАНИИ ДОХ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3000" spc="-1" strike="noStrike">
                <a:solidFill>
                  <a:srgbClr val="3c1b8f"/>
                </a:solidFill>
                <a:latin typeface="PF Din Text Comp Pro Medium"/>
              </a:rPr>
              <a:t>                            </a:t>
            </a:r>
            <a:r>
              <a:rPr b="0" lang="ru-RU" sz="3000" spc="-1" strike="noStrike">
                <a:solidFill>
                  <a:srgbClr val="3c1b8f"/>
                </a:solidFill>
                <a:latin typeface="PF Din Text Comp Pro Medium"/>
              </a:rPr>
              <a:t>на сайте ФНС Рос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3000" spc="-1" strike="noStrike">
                <a:solidFill>
                  <a:srgbClr val="3c1b8f"/>
                </a:solidFill>
                <a:latin typeface="PF Din Text Comp Pro Medium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3000" spc="-1" strike="noStrike">
                <a:solidFill>
                  <a:srgbClr val="3c1b8f"/>
                </a:solidFill>
                <a:latin typeface="PF Din Text Comp Pro Medium"/>
              </a:rPr>
              <a:t> </a:t>
            </a:r>
            <a:r>
              <a:rPr b="1" lang="en-US" sz="3000" spc="-1" strike="noStrike">
                <a:solidFill>
                  <a:srgbClr val="3c1b8f"/>
                </a:solidFill>
                <a:latin typeface="PF Din Text Comp Pro Medium"/>
              </a:rPr>
              <a:t>WWW.NALOG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1600" spc="-1" strike="noStrike">
                <a:solidFill>
                  <a:srgbClr val="3c1b8f"/>
                </a:solidFill>
                <a:latin typeface="PF Din Text Comp Pro Medium"/>
              </a:rPr>
              <a:t>КОНТАКТ-ЦЕНТР ФНС РОССИИ</a:t>
            </a:r>
            <a:r>
              <a:rPr b="0" lang="ru-RU" sz="2400" spc="-1" strike="noStrike">
                <a:solidFill>
                  <a:srgbClr val="3c1b8f"/>
                </a:solidFill>
                <a:latin typeface="PF Din Text Cond Pro Medium"/>
              </a:rPr>
              <a:t>: </a:t>
            </a:r>
            <a:r>
              <a:rPr b="0" lang="ru-RU" sz="1600" spc="-1" strike="noStrike">
                <a:solidFill>
                  <a:srgbClr val="3c1b8f"/>
                </a:solidFill>
                <a:latin typeface="PF Din Text Cond Pro Medium"/>
              </a:rPr>
              <a:t> </a:t>
            </a:r>
            <a:r>
              <a:rPr b="0" lang="en-US" sz="2800" spc="-1" strike="noStrike">
                <a:solidFill>
                  <a:srgbClr val="3c1b8f"/>
                </a:solidFill>
                <a:latin typeface="PF Din Text Comp Pro Medium"/>
              </a:rPr>
              <a:t>8-800-222-22-22</a:t>
            </a:r>
            <a:r>
              <a:rPr b="0" lang="ru-RU" sz="3200" spc="-1" strike="noStrike">
                <a:solidFill>
                  <a:srgbClr val="3c1b8f"/>
                </a:solidFill>
                <a:latin typeface="PF Din Text Cond Pro Medium"/>
              </a:rPr>
              <a:t> </a:t>
            </a:r>
            <a:r>
              <a:rPr b="0" lang="ru-RU" sz="1600" spc="-1" strike="noStrike">
                <a:solidFill>
                  <a:srgbClr val="3c1b8f"/>
                </a:solidFill>
                <a:latin typeface="PF Din Text Comp Pro Medium"/>
              </a:rPr>
              <a:t>ЗВОНОК БЕСПЛА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3200" spc="-1" strike="noStrike">
                <a:solidFill>
                  <a:srgbClr val="3c1b8f"/>
                </a:solidFill>
                <a:latin typeface="PF Din Text Cond Pro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3200" spc="-1" strike="noStrike">
                <a:solidFill>
                  <a:srgbClr val="3c1b8f"/>
                </a:solidFill>
                <a:latin typeface="PF Din Text Cond Pro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16000" y="1200240"/>
            <a:ext cx="7570800" cy="13716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PF Din Text Comp Pro Medium"/>
              </a:rPr>
              <a:t>ДНИ ОТКРЫТЫХ ДВЕРЕЙ</a:t>
            </a:r>
            <a:endParaRPr b="1" lang="en-US" sz="4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60" name="Номер слайда 2"/>
          <p:cNvSpPr/>
          <p:nvPr/>
        </p:nvSpPr>
        <p:spPr>
          <a:xfrm>
            <a:off x="8402760" y="4398840"/>
            <a:ext cx="504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86266441-7777-4E01-AFF5-072890E3DD56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Рисунок 4" descr=""/>
          <p:cNvPicPr/>
          <p:nvPr/>
        </p:nvPicPr>
        <p:blipFill>
          <a:blip r:embed="rId1"/>
          <a:srcRect l="21092" t="28835" r="20405" b="27956"/>
          <a:stretch/>
        </p:blipFill>
        <p:spPr>
          <a:xfrm>
            <a:off x="324000" y="411120"/>
            <a:ext cx="1198440" cy="123984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4"/>
          <p:cNvSpPr/>
          <p:nvPr/>
        </p:nvSpPr>
        <p:spPr>
          <a:xfrm>
            <a:off x="1619280" y="6159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УПРАВЛЕНИЕ ФЕДЕР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НАЛОГОВОЙ СЛУЖБЫ ПО ОРЕНБУРГ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2"/>
          <p:cNvGrpSpPr/>
          <p:nvPr/>
        </p:nvGrpSpPr>
        <p:grpSpPr>
          <a:xfrm>
            <a:off x="5867280" y="1995480"/>
            <a:ext cx="2449800" cy="2778120"/>
            <a:chOff x="5867280" y="1995480"/>
            <a:chExt cx="2449800" cy="2778120"/>
          </a:xfrm>
        </p:grpSpPr>
        <p:pic>
          <p:nvPicPr>
            <p:cNvPr id="564" name="Picture 3" descr="shutterstock_129936644-700x458"/>
            <p:cNvPicPr/>
            <p:nvPr/>
          </p:nvPicPr>
          <p:blipFill>
            <a:blip r:embed="rId2"/>
            <a:srcRect l="0" t="0" r="7498" b="0"/>
            <a:stretch/>
          </p:blipFill>
          <p:spPr>
            <a:xfrm>
              <a:off x="5867280" y="1995480"/>
              <a:ext cx="2449800" cy="2778120"/>
            </a:xfrm>
            <a:prstGeom prst="rect">
              <a:avLst/>
            </a:prstGeom>
            <a:ln w="63360">
              <a:solidFill>
                <a:srgbClr val="f2f2f2"/>
              </a:solidFill>
              <a:miter/>
            </a:ln>
            <a:effectLst>
              <a:outerShdw dist="99192" dir="3018055" blurRad="0" rotWithShape="0">
                <a:srgbClr val="b2b2b2">
                  <a:alpha val="50000"/>
                </a:srgbClr>
              </a:outerShdw>
            </a:effectLst>
          </p:spPr>
        </p:pic>
        <p:pic>
          <p:nvPicPr>
            <p:cNvPr id="565" name="Picture 4" descr="001306"/>
            <p:cNvPicPr/>
            <p:nvPr/>
          </p:nvPicPr>
          <p:blipFill>
            <a:blip r:embed="rId3"/>
            <a:srcRect l="2765" t="2502" r="3698" b="2331"/>
            <a:stretch/>
          </p:blipFill>
          <p:spPr>
            <a:xfrm>
              <a:off x="7349760" y="2298240"/>
              <a:ext cx="967320" cy="174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Прямоугольник 8"/>
          <p:cNvSpPr/>
          <p:nvPr/>
        </p:nvSpPr>
        <p:spPr>
          <a:xfrm>
            <a:off x="684360" y="2303640"/>
            <a:ext cx="5742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4000" spc="-1" strike="noStrike">
                <a:solidFill>
                  <a:srgbClr val="3c1b8f"/>
                </a:solidFill>
                <a:latin typeface="PF Din Text Comp Pro Medium"/>
              </a:rPr>
              <a:t>23 и 24 марта, 24 апре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800" spc="-1" strike="noStrike">
                <a:solidFill>
                  <a:srgbClr val="3c1b8f"/>
                </a:solidFill>
                <a:latin typeface="PF Din Text Comp Pro Medium"/>
              </a:rPr>
              <a:t>время работы с 08.30 до19.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4000" spc="-1" strike="noStrike">
                <a:solidFill>
                  <a:srgbClr val="3c1b8f"/>
                </a:solidFill>
                <a:latin typeface="PF Din Text Comp Pro Medium"/>
              </a:rPr>
              <a:t>25 апреля - </a:t>
            </a:r>
            <a:r>
              <a:rPr b="0" lang="ru-RU" sz="2800" spc="-1" strike="noStrike">
                <a:solidFill>
                  <a:srgbClr val="3c1b8f"/>
                </a:solidFill>
                <a:latin typeface="PF Din Text Comp Pro Medium"/>
              </a:rPr>
              <a:t>суббота</a:t>
            </a:r>
            <a:r>
              <a:rPr b="0" lang="ru-RU" sz="4000" spc="-1" strike="noStrike">
                <a:solidFill>
                  <a:srgbClr val="3c1b8f"/>
                </a:solidFill>
                <a:latin typeface="PF Din Text Comp Pro Medium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800" spc="-1" strike="noStrike">
                <a:solidFill>
                  <a:srgbClr val="3c1b8f"/>
                </a:solidFill>
                <a:latin typeface="PF Din Text Comp Pro Medium"/>
              </a:rPr>
              <a:t>время работы с 09.00 до 15.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15640" y="1679400"/>
            <a:ext cx="7164360" cy="14241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br>
              <a:rPr sz="3800"/>
            </a:br>
            <a:br>
              <a:rPr sz="3800"/>
            </a:br>
            <a:r>
              <a:rPr b="0" lang="ru-RU" sz="4200" spc="-1" strike="noStrike">
                <a:solidFill>
                  <a:srgbClr val="463377"/>
                </a:solidFill>
                <a:latin typeface="PF Din Text Comp Pro Medium"/>
              </a:rPr>
              <a:t>ЗА НЕПРЕДСТАВЛЕНИЕ ДЕКЛАРАЦИИ                 3-НДФЛ</a:t>
            </a:r>
            <a:br>
              <a:rPr sz="4200"/>
            </a:br>
            <a:r>
              <a:rPr b="1" lang="ru-RU" sz="3800" spc="-1" strike="noStrike">
                <a:solidFill>
                  <a:srgbClr val="005aa9"/>
                </a:solidFill>
                <a:latin typeface="Calibri"/>
              </a:rPr>
              <a:t>  </a:t>
            </a:r>
            <a:r>
              <a:rPr b="1" lang="ru-RU" sz="3800" spc="-1" strike="noStrike">
                <a:solidFill>
                  <a:srgbClr val="c00000"/>
                </a:solidFill>
                <a:latin typeface="PF Din Text Cond Pro Medium"/>
              </a:rPr>
              <a:t>ШТРАФ НЕ МЕНЕЕ</a:t>
            </a:r>
            <a:br>
              <a:rPr sz="3800"/>
            </a:br>
            <a:r>
              <a:rPr b="1" lang="ru-RU" sz="3800" spc="-1" strike="noStrike">
                <a:solidFill>
                  <a:srgbClr val="c00000"/>
                </a:solidFill>
                <a:latin typeface="PF Din Text Cond Pro Medium"/>
              </a:rPr>
              <a:t>1000 РУБЛЕЙ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68" name="Номер слайда 2"/>
          <p:cNvSpPr/>
          <p:nvPr/>
        </p:nvSpPr>
        <p:spPr>
          <a:xfrm>
            <a:off x="8402760" y="4398840"/>
            <a:ext cx="504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2031984-471A-4CD7-B75E-E2E020C6369F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Рисунок 4" descr=""/>
          <p:cNvPicPr/>
          <p:nvPr/>
        </p:nvPicPr>
        <p:blipFill>
          <a:blip r:embed="rId1"/>
          <a:srcRect l="21092" t="28835" r="20405" b="27956"/>
          <a:stretch/>
        </p:blipFill>
        <p:spPr>
          <a:xfrm>
            <a:off x="343080" y="439560"/>
            <a:ext cx="1276200" cy="123984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4"/>
          <p:cNvSpPr/>
          <p:nvPr/>
        </p:nvSpPr>
        <p:spPr>
          <a:xfrm>
            <a:off x="1619280" y="6159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УПРАВЛЕНИЕ ФЕДЕР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НАЛОГОВОЙ СЛУЖБЫ ПО ОРЕНБУРГ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7:44:32Z</dcterms:created>
  <dc:creator>5600-01-319</dc:creator>
  <dc:description/>
  <dc:language>en-US</dc:language>
  <cp:lastModifiedBy>Администратор</cp:lastModifiedBy>
  <cp:lastPrinted>2020-02-03T10:08:51Z</cp:lastPrinted>
  <dcterms:modified xsi:type="dcterms:W3CDTF">2020-02-26T06:02:35Z</dcterms:modified>
  <cp:revision>86</cp:revision>
  <dc:subject/>
  <dc:title>Слайд 1</dc:title>
</cp:coreProperties>
</file>