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3C7-F870-43CF-A11A-14E8F31F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FD1-0F5F-49BE-9002-EF3306DF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551C3-01E6-4A53-B2A4-C2B531279D8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36D0E-785A-4998-BDA3-38BF4CB40F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A3AC4-879A-4A01-B064-8FF7FD2A3DA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C4AD7-0CF0-4116-9418-DE2FB97F2D0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08D4C-225E-4127-9C72-25F3E2F7B8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15C54-6C71-4EEC-829F-51F61EFFC0F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19A67-4090-4292-B811-382E5A176D6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56275-2A37-47B1-82E9-0CF3556586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15C9B-28FD-443B-AEAC-213C840C067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A49-D6E6-4807-BD77-A84CC0A9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750-B777-426B-9865-1CE20BF4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E2940-AB38-4B90-A746-142309249F5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75C32-DFDD-429F-B54F-F007BA31857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3CE27-E68C-429D-8A6C-8D0029330B6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31399-21BB-4C29-B493-C5565D6CBC4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797B3-7298-4C1F-ADD0-65BFD70477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913FC-F58B-43B4-A42A-36209DF9A47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C9F5C-D034-49E5-87B9-364F83BC601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628134-BC66-4DAD-AEE8-AFBACA93E2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EE963A-18F2-4B5C-B7F3-798BE298A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5E040-D760-4895-A8AF-52A645FC6A6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ECDED-21F0-4DCB-AC8D-5A67364CB4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8A6E9-3F2D-4192-8A5E-0699C139FF4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1D1-4015-4E2B-80ED-7718DE5B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5B2-04E2-42C4-B5D3-4AC084C9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159CE-6863-4E0C-815D-C5B6653D8E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EF16A-02EC-4889-AE01-60124582AD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9F942-D033-4EF1-8375-DDCDD8B62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CE2-3C5C-4022-B739-F01CC8A5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3B2E2-2C8C-4006-877C-91CE2EF85E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EE45E-5A4A-4BD5-94FC-B1837AA52A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360FB-320A-498C-959B-56736A3FF5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83CBD-A0D7-4132-97F9-E720AF39C5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B98E4-21DB-4CAF-A50E-39F245AE20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D7627-152F-4A8B-9F15-7ED30B313F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752AD-4E3F-4355-BDC2-514897A23D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FA6F7-C7D0-4213-86C4-C6396CB469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C6F35-6B6F-4544-A991-5ABA83F906F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DD2BD-B171-46C6-BA68-8C4C249FC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ED0-92F3-4905-8829-5FA92E88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41C1E-7727-4366-9C83-C555213ABDF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58CFF-6576-4559-8EC3-B82982F9D28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4FD79-69A2-455C-BAE0-E8322EABB79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9EA2B-A100-4AD2-86C0-BA71732F96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497A3-6488-4C76-8EEB-9F2B86F474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6574D-E6F7-4E61-A5AD-265EA8D95B5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052D6-F841-4A54-9930-E00A9B539F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01F1B-0A3C-4B68-9066-82B143A191E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2A1B8-0A80-4585-B61D-9A8FDC6F693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6DFC3-B947-4F36-B91D-12AE30770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5BD-8509-40F2-A1E5-2452D8D6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23FAF-A5B4-4903-AB0F-7809A38E34D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AF15-060C-46B8-BD06-C5254057D9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0186-BA97-4826-AD5B-D89820B2D7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67D0-4B9C-4DAD-951A-2D0231F055F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6097-6B82-40FB-970E-77435D31E90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9EC5-9296-4FBE-AC19-0E7475CB9BA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18F1-C614-4E06-9ACB-B424FAD2AE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542A-B87B-4409-A287-8EC3E0C9B1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4CE3-0B19-40A4-A99F-6EADC6FD61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F812-B366-4865-A80E-80879BD44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A55-0A9D-459D-8F18-CCB9A0C1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882B-141E-451E-B88C-C7976A70A46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B8B1-8372-428C-8447-FE880516CA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1BF0-7225-4A60-A66A-DF9B9B40F37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4CA46-B229-470E-BAE2-946F673904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A0EF45-06D6-45A7-A016-4586D7F619D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4D47D-F59D-4705-A476-16EF4EBDBA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5FDB9-A442-43F6-B7A4-4CB31F07F38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C6E8C-B583-4395-8752-7B321D11F70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09F1D-FBA8-4CCC-93B8-10DF36040E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4FD6B6-46CF-43E4-B745-ABAC5BCD5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A39-9038-4715-9C7E-ED1349F4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FDE00-4CB2-428A-90C0-215FED5F55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6607B4-05D9-4574-8061-C526DE86BB7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491D6-5D29-4E94-8B53-1B75139D3D7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E1430-CE33-4481-8798-95B21B1E4D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A71557-CDAF-4216-BC59-2980D34C924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646-DFB2-4336-A038-D719F2C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11280" y="558360"/>
            <a:ext cx="763272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11280" y="3173400"/>
            <a:ext cx="763272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22320" y="149184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128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22320" y="3173400"/>
            <a:ext cx="37245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19176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72600" y="149184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1128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19176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772600" y="3173400"/>
            <a:ext cx="2457360" cy="1535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72172-8E98-4BCA-B8C5-203B01CAAEF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A2553-1381-48C9-8DAA-2DB779E33A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668BB-3DE8-4FB3-AF1E-A2048577B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FFDA576F-D797-4349-B4AA-956F65CE41BA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8F2235A-3F1B-48F4-8AAD-D7A02F0E0997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A71135B4-488B-4C74-8B22-69D4D1082B96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1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CD418C0-E469-44A7-AE12-D637F0A672D0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4796543-D238-4963-9D02-916BB6FF66E6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BD34EAB8-6FC7-49B1-8A7D-B68BEFC974C1}" type="datetime">
              <a:rPr b="0" lang="ru-RU" sz="11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Z:\Projects\Текущие\Проектная\FNS_2012\_БРЭНДБУК\out\PPT\3_1_present_16.9-01.png"/>
          <p:cNvPicPr/>
          <p:nvPr/>
        </p:nvPicPr>
        <p:blipFill>
          <a:blip r:embed="rId3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Z:\Projects\Текущие\Проектная\FNS_2012\_БРЭНДБУК\out\PPT\3_1_present_16.9-0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5925960" y="3844800"/>
            <a:ext cx="924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13896B48-AFF3-4EED-9E06-575761F5F7A1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5925960" y="3844800"/>
            <a:ext cx="924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AB5BBFB-CE7F-4F25-9CBB-9EBD1BD80764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Z:\Projects\Текущие\Проектная\FNS_2012\_БРЭНДБУК\out\PPT\3_1_present_16.9-04.png"/>
          <p:cNvPicPr/>
          <p:nvPr/>
        </p:nvPicPr>
        <p:blipFill>
          <a:blip r:embed="rId3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6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4C03804-2684-4D4F-B0BB-FE64BF27444D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Z:\Projects\Текущие\Проектная\FNS_2012\_БРЭНДБУК\out\PPT\3_1_present_16.9-04.png"/>
          <p:cNvPicPr/>
          <p:nvPr/>
        </p:nvPicPr>
        <p:blipFill>
          <a:blip r:embed="rId3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7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9E854AFA-4CA1-478F-B734-846DB369C8E2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Z:\Projects\Текущие\Проектная\FNS_2012\_БРЭНДБУК\out\PPT\3_1_present_16.9-0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Z:\Projects\Текущие\Проектная\FNS_2012\_БРЭНДБУК\out\PPT\3_1_present_16.9-03.png"/>
          <p:cNvPicPr/>
          <p:nvPr/>
        </p:nvPicPr>
        <p:blipFill>
          <a:blip r:embed="rId2"/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1280" y="558360"/>
            <a:ext cx="7632720" cy="925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800" spc="-1" strike="noStrike">
                <a:solidFill>
                  <a:srgbClr val="005aa9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11280" y="1491840"/>
            <a:ext cx="7632720" cy="3219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284040" indent="0">
              <a:spcBef>
                <a:spcPts val="601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1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2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•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3" marL="284040" indent="-284040">
              <a:spcBef>
                <a:spcPts val="601"/>
              </a:spcBef>
              <a:buClr>
                <a:srgbClr val="504f53"/>
              </a:buClr>
              <a:buFont typeface="Arial"/>
              <a:buChar char="–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4" marL="284040" indent="-284040">
              <a:spcBef>
                <a:spcPts val="601"/>
              </a:spcBef>
              <a:buClr>
                <a:srgbClr val="8d8c9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5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  <a:p>
            <a:pPr lvl="6"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2400" spc="-1" strike="noStrike">
                <a:solidFill>
                  <a:srgbClr val="005aa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8"/>
          </p:nvPr>
        </p:nvSpPr>
        <p:spPr>
          <a:xfrm>
            <a:off x="8402760" y="4398480"/>
            <a:ext cx="504720" cy="513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  <a:defRPr b="0" lang="ru-RU" sz="2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ts val="1874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E083CC69-D19E-4B4D-948A-4D62EA3A63F0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77880" y="936720"/>
            <a:ext cx="6103800" cy="3579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ru-RU" sz="4700" spc="-1" strike="noStrike">
              <a:solidFill>
                <a:srgbClr val="8d8c90"/>
              </a:solidFill>
              <a:latin typeface="Calibri"/>
            </a:endParaRPr>
          </a:p>
        </p:txBody>
      </p:sp>
      <p:pic>
        <p:nvPicPr>
          <p:cNvPr id="530" name="Picture 2" descr="C:\Users\5600-03-410\Desktop\Баннер 2020.JPG"/>
          <p:cNvPicPr/>
          <p:nvPr/>
        </p:nvPicPr>
        <p:blipFill>
          <a:blip r:embed="rId1"/>
          <a:stretch/>
        </p:blipFill>
        <p:spPr>
          <a:xfrm>
            <a:off x="-108000" y="0"/>
            <a:ext cx="957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90560" y="1634760"/>
            <a:ext cx="7067520" cy="142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     </a:t>
            </a:r>
            <a:br>
              <a:rPr sz="3800"/>
            </a:b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              </a:t>
            </a:r>
            <a:r>
              <a:rPr b="0" lang="ru-RU" sz="3600" spc="-1" strike="noStrike">
                <a:solidFill>
                  <a:srgbClr val="3c1b8f"/>
                </a:solidFill>
                <a:latin typeface="PF Din Text Comp Pro Medium"/>
              </a:rPr>
              <a:t>ОБЯЗАННОСТЬ:</a:t>
            </a:r>
            <a:br>
              <a:rPr sz="3600"/>
            </a:b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 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32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7261EBF9-CB3C-4A46-97A3-E9EA844E461E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Рисунок 4" descr=""/>
          <p:cNvPicPr/>
          <p:nvPr/>
        </p:nvPicPr>
        <p:blipFill>
          <a:blip r:embed="rId1"/>
          <a:srcRect l="21095" t="28835" r="20399" b="27957"/>
          <a:stretch/>
        </p:blipFill>
        <p:spPr>
          <a:xfrm>
            <a:off x="333360" y="411120"/>
            <a:ext cx="1225440" cy="1224000"/>
          </a:xfrm>
          <a:prstGeom prst="rect">
            <a:avLst/>
          </a:prstGeom>
          <a:ln w="0">
            <a:noFill/>
          </a:ln>
        </p:spPr>
      </p:pic>
      <p:sp>
        <p:nvSpPr>
          <p:cNvPr id="534" name="Прямоугольник 4"/>
          <p:cNvSpPr/>
          <p:nvPr/>
        </p:nvSpPr>
        <p:spPr>
          <a:xfrm>
            <a:off x="1692360" y="62712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977760" y="1924200"/>
            <a:ext cx="6707160" cy="647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Вознаграждения по гражданско-правовым договорам, в том числе  от сдачи имущества в арен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971640" y="2643120"/>
            <a:ext cx="6724440" cy="720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Продажа имущества, находящегося в собственности меньше минимального срока вла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946080" y="3435480"/>
            <a:ext cx="6697800" cy="285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1200" spc="-1" strike="noStrike">
                <a:solidFill>
                  <a:srgbClr val="003380"/>
                </a:solidFill>
                <a:latin typeface="PF DinDisplay Pro Medium"/>
              </a:rPr>
              <a:t> </a:t>
            </a:r>
            <a:r>
              <a:rPr b="0" lang="ru-RU" sz="1200" spc="-1" strike="noStrike">
                <a:solidFill>
                  <a:srgbClr val="003380"/>
                </a:solidFill>
                <a:latin typeface="PF DinDisplay Pro Medium"/>
              </a:rPr>
              <a:t>Выигрыши и призы (в лотереях, казино, тотализаторах, от участия в рекламных акциях, конкурсах, игровых автоматах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"/>
          <p:cNvSpPr/>
          <p:nvPr/>
        </p:nvSpPr>
        <p:spPr>
          <a:xfrm>
            <a:off x="946080" y="3435480"/>
            <a:ext cx="6738840" cy="720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1200" spc="-1" strike="noStrike">
                <a:solidFill>
                  <a:srgbClr val="3c1b8f"/>
                </a:solidFill>
                <a:latin typeface="PF DinDisplay Pro Medium"/>
              </a:rPr>
              <a:t> </a:t>
            </a: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Подарки, выигрыши и призы (в лотереях, казино, тотализаторах, от участия в рекламных акциях, конкурсах, игровых автоматах</a:t>
            </a:r>
            <a:r>
              <a:rPr b="0" lang="ru-RU" sz="2000" spc="-1" strike="noStrike">
                <a:solidFill>
                  <a:srgbClr val="003380"/>
                </a:solidFill>
                <a:latin typeface="PF Din Text Comp Pro Mediu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3"/>
          <p:cNvSpPr/>
          <p:nvPr/>
        </p:nvSpPr>
        <p:spPr>
          <a:xfrm>
            <a:off x="957240" y="4227480"/>
            <a:ext cx="6738840" cy="5763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cceff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2000" spc="-1" strike="noStrike">
                <a:solidFill>
                  <a:srgbClr val="3c1b8f"/>
                </a:solidFill>
                <a:latin typeface="PF Din Text Comp Pro Medium"/>
              </a:rPr>
              <a:t>Доходы, полученные от блогерск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22320" y="1200240"/>
            <a:ext cx="7764480" cy="9396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PF Din Text Comp Pro Medium"/>
              </a:rPr>
              <a:t>УДОБНО НАПРАВИТЬ ДЕКЛАРАЦИЮ 3-НДФЛ</a:t>
            </a:r>
            <a:br>
              <a:rPr sz="4000"/>
            </a:br>
            <a:r>
              <a:rPr b="0" lang="ru-RU" sz="2400" spc="-1" strike="noStrike">
                <a:solidFill>
                  <a:srgbClr val="463377"/>
                </a:solidFill>
                <a:latin typeface="PF Din Text Comp Pro Medium"/>
              </a:rPr>
              <a:t>ЧЕРЕЗ ЛИЧНЫЙ КАБИНЕТ НАЛОГОПЛАТЕЛЬЩИКА БЕЗ ЛИЧНОГО ВИЗИТА</a:t>
            </a:r>
            <a:endParaRPr b="1" lang="en-US" sz="2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41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9A9ECEC-BCC2-4126-B822-F599954E7EBF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24000" y="411120"/>
            <a:ext cx="1198440" cy="1239840"/>
          </a:xfrm>
          <a:prstGeom prst="rect">
            <a:avLst/>
          </a:prstGeom>
          <a:ln w="0">
            <a:noFill/>
          </a:ln>
        </p:spPr>
      </p:pic>
      <p:sp>
        <p:nvSpPr>
          <p:cNvPr id="543" name="Прямоугольник 4"/>
          <p:cNvSpPr/>
          <p:nvPr/>
        </p:nvSpPr>
        <p:spPr>
          <a:xfrm>
            <a:off x="1619280" y="615960"/>
            <a:ext cx="63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Рисунок 18" descr=""/>
          <p:cNvPicPr/>
          <p:nvPr/>
        </p:nvPicPr>
        <p:blipFill>
          <a:blip r:embed="rId2"/>
          <a:srcRect l="2404" t="9641" r="10705" b="52953"/>
          <a:stretch/>
        </p:blipFill>
        <p:spPr>
          <a:xfrm>
            <a:off x="1403280" y="2066760"/>
            <a:ext cx="6697800" cy="1314720"/>
          </a:xfrm>
          <a:prstGeom prst="rect">
            <a:avLst/>
          </a:prstGeom>
          <a:ln w="0">
            <a:noFill/>
          </a:ln>
        </p:spPr>
      </p:pic>
      <p:grpSp>
        <p:nvGrpSpPr>
          <p:cNvPr id="545" name="Группа 6"/>
          <p:cNvGrpSpPr/>
          <p:nvPr/>
        </p:nvGrpSpPr>
        <p:grpSpPr>
          <a:xfrm>
            <a:off x="3191040" y="3772080"/>
            <a:ext cx="2768400" cy="981000"/>
            <a:chOff x="3191040" y="3772080"/>
            <a:chExt cx="2768400" cy="981000"/>
          </a:xfrm>
        </p:grpSpPr>
        <p:sp>
          <p:nvSpPr>
            <p:cNvPr id="546" name="TextBox 7"/>
            <p:cNvSpPr/>
            <p:nvPr/>
          </p:nvSpPr>
          <p:spPr>
            <a:xfrm>
              <a:off x="3191040" y="3772080"/>
              <a:ext cx="27684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ru-RU" sz="1300" spc="-1" strike="noStrike">
                  <a:solidFill>
                    <a:srgbClr val="463377"/>
                  </a:solidFill>
                  <a:latin typeface="PF Din Text Comp Pro Medium"/>
                </a:rPr>
                <a:t>ЛОГИН И ПАРОЛ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Рисунок 15" descr=""/>
            <p:cNvPicPr/>
            <p:nvPr/>
          </p:nvPicPr>
          <p:blipFill>
            <a:blip r:embed="rId3"/>
            <a:srcRect l="0" t="0" r="52408" b="61163"/>
            <a:stretch/>
          </p:blipFill>
          <p:spPr>
            <a:xfrm>
              <a:off x="3766320" y="4217400"/>
              <a:ext cx="1656000" cy="53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Прямоугольник 9"/>
          <p:cNvSpPr/>
          <p:nvPr/>
        </p:nvSpPr>
        <p:spPr>
          <a:xfrm>
            <a:off x="3537000" y="2401920"/>
            <a:ext cx="1886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PF Din Text Comp Pro Medium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PF Din Text Comp Pro Medium"/>
              </a:rPr>
              <a:t>       </a:t>
            </a:r>
            <a:r>
              <a:rPr b="1" lang="ru-RU" sz="1600" spc="-1" strike="noStrike">
                <a:solidFill>
                  <a:srgbClr val="c00000"/>
                </a:solidFill>
                <a:latin typeface="PF Din Text Comp Pro Medium"/>
              </a:rPr>
              <a:t>СПОСОБЫ ВХОДА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Группа 10"/>
          <p:cNvGrpSpPr/>
          <p:nvPr/>
        </p:nvGrpSpPr>
        <p:grpSpPr>
          <a:xfrm>
            <a:off x="684360" y="3887640"/>
            <a:ext cx="2246040" cy="831960"/>
            <a:chOff x="684360" y="3887640"/>
            <a:chExt cx="2246040" cy="831960"/>
          </a:xfrm>
        </p:grpSpPr>
        <p:pic>
          <p:nvPicPr>
            <p:cNvPr id="550" name="Рисунок 16" descr=""/>
            <p:cNvPicPr/>
            <p:nvPr/>
          </p:nvPicPr>
          <p:blipFill>
            <a:blip r:embed="rId4"/>
            <a:stretch/>
          </p:blipFill>
          <p:spPr>
            <a:xfrm>
              <a:off x="1044000" y="4216320"/>
              <a:ext cx="18198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12"/>
            <p:cNvSpPr/>
            <p:nvPr/>
          </p:nvSpPr>
          <p:spPr>
            <a:xfrm>
              <a:off x="684360" y="3887640"/>
              <a:ext cx="22460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1" lang="ru-RU" sz="1300" spc="-1" strike="noStrike">
                  <a:solidFill>
                    <a:srgbClr val="005aa9"/>
                  </a:solidFill>
                  <a:latin typeface="Calibri"/>
                </a:rPr>
                <a:t>     </a:t>
              </a:r>
              <a:r>
                <a:rPr b="0" lang="ru-RU" sz="1200" spc="-1" strike="noStrike">
                  <a:solidFill>
                    <a:srgbClr val="463377"/>
                  </a:solidFill>
                  <a:latin typeface="PF Din Text Comp Pro Medium"/>
                </a:rPr>
                <a:t>УЧЕТНАЯ ЗАПИСЬ ЕСИ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Группа 13"/>
          <p:cNvGrpSpPr/>
          <p:nvPr/>
        </p:nvGrpSpPr>
        <p:grpSpPr>
          <a:xfrm>
            <a:off x="6118200" y="3887640"/>
            <a:ext cx="1893960" cy="865440"/>
            <a:chOff x="6118200" y="3887640"/>
            <a:chExt cx="1893960" cy="865440"/>
          </a:xfrm>
        </p:grpSpPr>
        <p:sp>
          <p:nvSpPr>
            <p:cNvPr id="553" name="TextBox 14"/>
            <p:cNvSpPr/>
            <p:nvPr/>
          </p:nvSpPr>
          <p:spPr>
            <a:xfrm>
              <a:off x="6118200" y="3887640"/>
              <a:ext cx="18939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ru-RU" sz="1000" spc="-1" strike="noStrike">
                  <a:solidFill>
                    <a:srgbClr val="463377"/>
                  </a:solidFill>
                  <a:latin typeface="PF Din Text Comp Pro Medium"/>
                </a:rPr>
                <a:t>ЭЛЕКТРОННАЯ ПОДПИС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Рисунок 26" descr=""/>
            <p:cNvPicPr/>
            <p:nvPr/>
          </p:nvPicPr>
          <p:blipFill>
            <a:blip r:embed="rId5"/>
            <a:srcRect l="55517" t="42537" r="0" b="0"/>
            <a:stretch/>
          </p:blipFill>
          <p:spPr>
            <a:xfrm>
              <a:off x="6486120" y="4216680"/>
              <a:ext cx="96588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93720" y="484200"/>
            <a:ext cx="7010640" cy="7920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br>
              <a:rPr sz="1600"/>
            </a:b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1" lang="en-US" sz="16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56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DF9B201-D2C3-44E0-9591-6D20EAC64AAA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20760" y="387360"/>
            <a:ext cx="1198440" cy="1239840"/>
          </a:xfrm>
          <a:prstGeom prst="rect">
            <a:avLst/>
          </a:prstGeom>
          <a:ln w="0">
            <a:noFill/>
          </a:ln>
        </p:spPr>
      </p:pic>
      <p:sp>
        <p:nvSpPr>
          <p:cNvPr id="558" name="Прямоугольник 5"/>
          <p:cNvSpPr/>
          <p:nvPr/>
        </p:nvSpPr>
        <p:spPr>
          <a:xfrm>
            <a:off x="1116000" y="1450800"/>
            <a:ext cx="71280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600" spc="-1" strike="noStrike">
                <a:solidFill>
                  <a:srgbClr val="3c1b8f"/>
                </a:solidFill>
                <a:latin typeface="PF Din Text Comp Pro Medium"/>
              </a:rPr>
              <a:t>ВСЯ ИНФОРМАЦИЯ О ДЕКЛАРИРОВАНИИ ДО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000" spc="-1" strike="noStrike">
                <a:solidFill>
                  <a:srgbClr val="3c1b8f"/>
                </a:solidFill>
                <a:latin typeface="PF Din Text Comp Pro Medium"/>
              </a:rPr>
              <a:t>                            </a:t>
            </a:r>
            <a:r>
              <a:rPr b="0" lang="ru-RU" sz="3000" spc="-1" strike="noStrike">
                <a:solidFill>
                  <a:srgbClr val="3c1b8f"/>
                </a:solidFill>
                <a:latin typeface="PF Din Text Comp Pro Medium"/>
              </a:rPr>
              <a:t>на сайте ФНС Росс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000" spc="-1" strike="noStrike">
                <a:solidFill>
                  <a:srgbClr val="3c1b8f"/>
                </a:solidFill>
                <a:latin typeface="PF Din Text Comp Pro Medium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ru-RU" sz="3000" spc="-1" strike="noStrike">
                <a:solidFill>
                  <a:srgbClr val="3c1b8f"/>
                </a:solidFill>
                <a:latin typeface="PF Din Text Comp Pro Medium"/>
              </a:rPr>
              <a:t> </a:t>
            </a:r>
            <a:r>
              <a:rPr b="1" lang="en-US" sz="3000" spc="-1" strike="noStrike">
                <a:solidFill>
                  <a:srgbClr val="3c1b8f"/>
                </a:solidFill>
                <a:latin typeface="PF Din Text Comp Pro Medium"/>
              </a:rPr>
              <a:t>WWW.NALOG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1600" spc="-1" strike="noStrike">
                <a:solidFill>
                  <a:srgbClr val="3c1b8f"/>
                </a:solidFill>
                <a:latin typeface="PF Din Text Comp Pro Medium"/>
              </a:rPr>
              <a:t>КОНТАКТ-ЦЕНТР ФНС РОССИИ</a:t>
            </a:r>
            <a:r>
              <a:rPr b="0" lang="ru-RU" sz="2400" spc="-1" strike="noStrike">
                <a:solidFill>
                  <a:srgbClr val="3c1b8f"/>
                </a:solidFill>
                <a:latin typeface="PF Din Text Cond Pro Medium"/>
              </a:rPr>
              <a:t>: </a:t>
            </a:r>
            <a:r>
              <a:rPr b="0" lang="ru-RU" sz="16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r>
              <a:rPr b="0" lang="en-US" sz="2800" spc="-1" strike="noStrike">
                <a:solidFill>
                  <a:srgbClr val="3c1b8f"/>
                </a:solidFill>
                <a:latin typeface="PF Din Text Comp Pro Medium"/>
              </a:rPr>
              <a:t>8-800-222-22-22</a:t>
            </a:r>
            <a:r>
              <a:rPr b="0" lang="ru-RU" sz="32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r>
              <a:rPr b="0" lang="ru-RU" sz="1600" spc="-1" strike="noStrike">
                <a:solidFill>
                  <a:srgbClr val="3c1b8f"/>
                </a:solidFill>
                <a:latin typeface="PF Din Text Comp Pro Medium"/>
              </a:rPr>
              <a:t>ЗВОНОК БЕСПЛА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32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3200" spc="-1" strike="noStrike">
                <a:solidFill>
                  <a:srgbClr val="3c1b8f"/>
                </a:solidFill>
                <a:latin typeface="PF Din Text Cond Pro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6000" y="1200240"/>
            <a:ext cx="7570800" cy="13716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PF Din Text Comp Pro Medium"/>
              </a:rPr>
              <a:t>ДНИ ОТКРЫТЫХ ДВЕРЕЙ</a:t>
            </a:r>
            <a:endParaRPr b="1" lang="en-US" sz="44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60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5EA39704-21A5-40F2-9DB1-6F9C524F0617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24000" y="411120"/>
            <a:ext cx="1198440" cy="123984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4"/>
          <p:cNvSpPr/>
          <p:nvPr/>
        </p:nvSpPr>
        <p:spPr>
          <a:xfrm>
            <a:off x="1619280" y="6159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2"/>
          <p:cNvGrpSpPr/>
          <p:nvPr/>
        </p:nvGrpSpPr>
        <p:grpSpPr>
          <a:xfrm>
            <a:off x="5867280" y="1995480"/>
            <a:ext cx="2449800" cy="2778120"/>
            <a:chOff x="5867280" y="1995480"/>
            <a:chExt cx="2449800" cy="2778120"/>
          </a:xfrm>
        </p:grpSpPr>
        <p:pic>
          <p:nvPicPr>
            <p:cNvPr id="564" name="Picture 3" descr="shutterstock_129936644-700x458"/>
            <p:cNvPicPr/>
            <p:nvPr/>
          </p:nvPicPr>
          <p:blipFill>
            <a:blip r:embed="rId2"/>
            <a:srcRect l="0" t="0" r="7498" b="0"/>
            <a:stretch/>
          </p:blipFill>
          <p:spPr>
            <a:xfrm>
              <a:off x="5867280" y="1995480"/>
              <a:ext cx="2449800" cy="2778120"/>
            </a:xfrm>
            <a:prstGeom prst="rect">
              <a:avLst/>
            </a:prstGeom>
            <a:ln w="63360">
              <a:solidFill>
                <a:srgbClr val="f2f2f2"/>
              </a:solidFill>
              <a:miter/>
            </a:ln>
            <a:effectLst>
              <a:outerShdw dist="99192" dir="3018055" blurRad="0" rotWithShape="0">
                <a:srgbClr val="b2b2b2">
                  <a:alpha val="50000"/>
                </a:srgbClr>
              </a:outerShdw>
            </a:effectLst>
          </p:spPr>
        </p:pic>
        <p:pic>
          <p:nvPicPr>
            <p:cNvPr id="565" name="Picture 4" descr="001306"/>
            <p:cNvPicPr/>
            <p:nvPr/>
          </p:nvPicPr>
          <p:blipFill>
            <a:blip r:embed="rId3"/>
            <a:srcRect l="2765" t="2502" r="3698" b="2331"/>
            <a:stretch/>
          </p:blipFill>
          <p:spPr>
            <a:xfrm>
              <a:off x="7349760" y="2298240"/>
              <a:ext cx="967320" cy="17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Прямоугольник 8"/>
          <p:cNvSpPr/>
          <p:nvPr/>
        </p:nvSpPr>
        <p:spPr>
          <a:xfrm>
            <a:off x="684360" y="2303640"/>
            <a:ext cx="5742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4000" spc="-1" strike="noStrike">
                <a:solidFill>
                  <a:srgbClr val="3c1b8f"/>
                </a:solidFill>
                <a:latin typeface="PF Din Text Comp Pro Medium"/>
              </a:rPr>
              <a:t>23 и 24 марта, 24 апре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800" spc="-1" strike="noStrike">
                <a:solidFill>
                  <a:srgbClr val="3c1b8f"/>
                </a:solidFill>
                <a:latin typeface="PF Din Text Comp Pro Medium"/>
              </a:rPr>
              <a:t>время работы с 08.30 до19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4000" spc="-1" strike="noStrike">
                <a:solidFill>
                  <a:srgbClr val="3c1b8f"/>
                </a:solidFill>
                <a:latin typeface="PF Din Text Comp Pro Medium"/>
              </a:rPr>
              <a:t>25 апреля - </a:t>
            </a:r>
            <a:r>
              <a:rPr b="0" lang="ru-RU" sz="2800" spc="-1" strike="noStrike">
                <a:solidFill>
                  <a:srgbClr val="3c1b8f"/>
                </a:solidFill>
                <a:latin typeface="PF Din Text Comp Pro Medium"/>
              </a:rPr>
              <a:t>суббота</a:t>
            </a:r>
            <a:r>
              <a:rPr b="0" lang="ru-RU" sz="4000" spc="-1" strike="noStrike">
                <a:solidFill>
                  <a:srgbClr val="3c1b8f"/>
                </a:solidFill>
                <a:latin typeface="PF Din Text Comp Pro Medium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800" spc="-1" strike="noStrike">
                <a:solidFill>
                  <a:srgbClr val="3c1b8f"/>
                </a:solidFill>
                <a:latin typeface="PF Din Text Comp Pro Medium"/>
              </a:rPr>
              <a:t>время работы с 09.00 до 15.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15640" y="1679400"/>
            <a:ext cx="7164360" cy="14241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br>
              <a:rPr sz="3800"/>
            </a:br>
            <a:br>
              <a:rPr sz="3800"/>
            </a:br>
            <a:r>
              <a:rPr b="0" lang="ru-RU" sz="4200" spc="-1" strike="noStrike">
                <a:solidFill>
                  <a:srgbClr val="463377"/>
                </a:solidFill>
                <a:latin typeface="PF Din Text Comp Pro Medium"/>
              </a:rPr>
              <a:t>ЗА НЕПРЕДСТАВЛЕНИЕ ДЕКЛАРАЦИИ                 3-НДФЛ</a:t>
            </a:r>
            <a:br>
              <a:rPr sz="4200"/>
            </a:br>
            <a:r>
              <a:rPr b="1" lang="ru-RU" sz="3800" spc="-1" strike="noStrike">
                <a:solidFill>
                  <a:srgbClr val="005aa9"/>
                </a:solidFill>
                <a:latin typeface="Calibri"/>
              </a:rPr>
              <a:t>  </a:t>
            </a:r>
            <a:r>
              <a:rPr b="1" lang="ru-RU" sz="3800" spc="-1" strike="noStrike">
                <a:solidFill>
                  <a:srgbClr val="c00000"/>
                </a:solidFill>
                <a:latin typeface="PF Din Text Cond Pro Medium"/>
              </a:rPr>
              <a:t>ШТРАФ НЕ МЕНЕЕ</a:t>
            </a: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PF Din Text Cond Pro Medium"/>
              </a:rPr>
              <a:t>1000 РУБЛЕЙ</a:t>
            </a:r>
            <a:endParaRPr b="1" lang="en-US" sz="3800" spc="-1" strike="noStrike">
              <a:solidFill>
                <a:srgbClr val="005aa9"/>
              </a:solidFill>
              <a:latin typeface="Calibri"/>
            </a:endParaRPr>
          </a:p>
        </p:txBody>
      </p:sp>
      <p:sp>
        <p:nvSpPr>
          <p:cNvPr id="568" name="Номер слайда 2"/>
          <p:cNvSpPr/>
          <p:nvPr/>
        </p:nvSpPr>
        <p:spPr>
          <a:xfrm>
            <a:off x="8402760" y="4398840"/>
            <a:ext cx="5047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ts val="1874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fld id="{35C493F6-EB78-4D98-ADA1-ACC55F12AF98}" type="slidenum">
              <a:rPr b="0" lang="ru-RU" sz="2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Рисунок 4" descr=""/>
          <p:cNvPicPr/>
          <p:nvPr/>
        </p:nvPicPr>
        <p:blipFill>
          <a:blip r:embed="rId1"/>
          <a:srcRect l="21092" t="28835" r="20405" b="27956"/>
          <a:stretch/>
        </p:blipFill>
        <p:spPr>
          <a:xfrm>
            <a:off x="343080" y="439560"/>
            <a:ext cx="1276200" cy="123984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4"/>
          <p:cNvSpPr/>
          <p:nvPr/>
        </p:nvSpPr>
        <p:spPr>
          <a:xfrm>
            <a:off x="1619280" y="61596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УПРАВЛЕНИЕ ФЕДЕР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a6a6a6"/>
                </a:solidFill>
                <a:latin typeface="PF DinText Pro Medium"/>
              </a:rPr>
              <a:t>НАЛОГОВОЙ СЛУЖБЫ ПО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7:44:32Z</dcterms:created>
  <dc:creator>5600-01-319</dc:creator>
  <dc:description/>
  <dc:language>en-US</dc:language>
  <cp:lastModifiedBy>Администратор</cp:lastModifiedBy>
  <cp:lastPrinted>2020-02-03T10:08:51Z</cp:lastPrinted>
  <dcterms:modified xsi:type="dcterms:W3CDTF">2020-02-26T06:02:35Z</dcterms:modified>
  <cp:revision>86</cp:revision>
  <dc:subject/>
  <dc:title>Слайд 1</dc:title>
</cp:coreProperties>
</file>